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A45-A4FB-4839-96B0-BA282366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0C9-B34E-4D75-BBBD-C9861C6F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AE36-CA9A-42D5-8823-BE5F4FE1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0EE-92B2-45EF-A749-012A6EE7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2283-7FED-4886-B3B2-8924BD20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332-AE02-4EC3-92A6-F7F771A9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F514-AF53-426D-B9AB-FA80FC6C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5B79-A618-4045-AFEE-DBD80129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9A9A-E229-4724-B2A5-4C5347A6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6BBF-9848-4B21-A633-2E7CD367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F3BC-904F-4BEC-A849-DA66EED4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932E-D182-47E4-8EEA-9AFF6F77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76C3-7D9B-4325-96B5-B447B7868B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解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26560" y="1341000"/>
            <a:ext cx="79599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量的デー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身長、テストの点数、お菓子の価格、家から学校までの所要時間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ｍ走の記録、大気中の窒素酸化物の量、血圧、気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質的デー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統計検定の級、好き嫌い、出身県、天気、職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9T06:19:28Z</dcterms:created>
  <dc:creator>Matsumoto Chieko</dc:creator>
  <dc:description/>
  <dc:language>en-US</dc:language>
  <cp:lastModifiedBy>Matsumoto Chieko</cp:lastModifiedBy>
  <dcterms:modified xsi:type="dcterms:W3CDTF">2018-06-19T06:19:58Z</dcterms:modified>
  <cp:revision>1</cp:revision>
  <dc:subject/>
  <dc:title>小テスト</dc:title>
</cp:coreProperties>
</file>