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0F4-2881-429D-B2E8-003ABC2E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603-45AE-4273-94A1-A158ED22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11C-7A82-4F51-860D-3AAF3F3B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D48-2A5B-42BC-B006-F0E45747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33F-E3F0-4199-9D36-49090D92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620-1A74-4BA2-9E44-825659BF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FCA-509A-4663-8534-8A484D0C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930-E626-4896-86E0-696661E4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664-B287-4406-8A90-BCDC7BDD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182-5B02-410D-A21A-17E6D5ED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17D-A498-4FFC-A6AD-5A66FBA2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96C-459E-4768-A998-C1307067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2678-2FFE-4701-88FD-882FD518AA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平均の計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度数分布表からの平均の計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　解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"/>
          <p:cNvSpPr/>
          <p:nvPr/>
        </p:nvSpPr>
        <p:spPr>
          <a:xfrm>
            <a:off x="539640" y="227664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全体の平均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.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+156+158+162+154+152+151+167=1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50÷8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.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解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図 3" descr="txp_fig.png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26146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609480" y="46483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級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度数の計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度数分布表からの平均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.75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9T06:20:13Z</dcterms:created>
  <dc:creator>Matsumoto Chieko</dc:creator>
  <dc:description/>
  <dc:language>en-US</dc:language>
  <cp:lastModifiedBy>Matsumoto Chieko</cp:lastModifiedBy>
  <dcterms:modified xsi:type="dcterms:W3CDTF">2018-06-19T06:20:36Z</dcterms:modified>
  <cp:revision>1</cp:revision>
  <dc:subject/>
  <dc:title>小テスト</dc:title>
</cp:coreProperties>
</file>