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BDF-7A6A-4EA6-82F8-745C217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A04-87FB-4115-8CDE-7165E09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10E-350C-4523-9710-A243C338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3DB-D3C8-4816-9A19-E3B9AD82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15F-92B7-4BA1-AD6E-856E614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09F-0F97-41CA-A63E-0CCE0D7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499-9116-4AA2-B75A-70021A6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BF0-A25D-405E-AAC7-06C5240E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903-9A65-488B-869B-647AEE8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D28-0B30-45B0-B2F6-453C166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EDC-8587-45BF-8C97-6CA2079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DAE-B5F9-42EA-AA3D-C2CB886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A76-BE30-4631-9CE9-0D61575305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268280"/>
            <a:ext cx="8559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ある養魚場の池には大量のニジマスがいる。この池のニジマスの数を推定した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池の中からニジマスを８０匹採取し、これらのニジマスに目印をつけて元の池に戻し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数日後、池の中からニジマスを６０匹採取したところ、その中に目印のついたニジマスが３匹いた（無作為抽出による標本調査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回答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無作為抽出による標本調査につい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母集団：池にいるニジマス全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標本：６０匹のニジマ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標本の大きさ：６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６０匹のニジマスのうち３匹に印がついていたので、池全体のニジマスの数をｘ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=x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が成り立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これを解いて、池全体のニジマス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回答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この方法でニジマスの数を予想するための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調査期間中に死んだ魚や新たに池に入った魚はい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最初につけた目印は消え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どのニジマスも採取される確率は同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8:00Z</dcterms:created>
  <dc:creator>Matsumoto Chieko</dc:creator>
  <dc:description/>
  <dc:language>en-US</dc:language>
  <cp:lastModifiedBy>Matsumoto Chieko</cp:lastModifiedBy>
  <dcterms:modified xsi:type="dcterms:W3CDTF">2018-06-19T06:38:21Z</dcterms:modified>
  <cp:revision>1</cp:revision>
  <dc:subject/>
  <dc:title>小テスト</dc:title>
</cp:coreProperties>
</file>