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C6B7-9543-4D3D-A36A-060CA8E5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9F8-DB27-4958-8C0A-56C4CF8A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43FF-2F03-4F28-A4D0-5B0F8E78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030D-02BF-4D79-866A-9E504F5D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72E-70DB-4426-84AF-1B2F105E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0D2-AB5F-4C76-9A9B-8F627996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9B9E-37AC-4949-A5BB-BB527ECF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6DBE-83A8-4D8B-A957-6F0D865F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846-1808-45DD-B83E-A1FFBADC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5C5-378B-4810-A032-81C91C1F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B55-FCC8-41E3-A879-2194C653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E0A2-E3D4-482E-A840-E1A4BA71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92C4-7A7E-4AB0-A5C7-19BD298F68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全国から無作為抽出し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0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世帯について年間の米購入量を調査したところ、平均値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5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，標本標準偏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8.0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であった。全国の１世帯あたりの平均米購入量を信頼係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5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％で推定せよ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解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380880" y="33526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2" descr="D:\shisato\授業\txp_fig.png"/>
          <p:cNvPicPr/>
          <p:nvPr/>
        </p:nvPicPr>
        <p:blipFill>
          <a:blip r:embed="rId1"/>
          <a:stretch/>
        </p:blipFill>
        <p:spPr>
          <a:xfrm>
            <a:off x="336600" y="2290680"/>
            <a:ext cx="8470800" cy="297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D:\shisato\授業\txp_fig.png"/>
          <p:cNvPicPr/>
          <p:nvPr/>
        </p:nvPicPr>
        <p:blipFill>
          <a:blip r:embed="rId2"/>
          <a:stretch/>
        </p:blipFill>
        <p:spPr>
          <a:xfrm>
            <a:off x="1549440" y="3203640"/>
            <a:ext cx="7035840" cy="780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D:\shisato\授業\txp_fig.png"/>
          <p:cNvPicPr/>
          <p:nvPr/>
        </p:nvPicPr>
        <p:blipFill>
          <a:blip r:embed="rId3"/>
          <a:stretch/>
        </p:blipFill>
        <p:spPr>
          <a:xfrm>
            <a:off x="1600200" y="4419720"/>
            <a:ext cx="4114800" cy="368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D:\shisato\授業\txp_fig.png"/>
          <p:cNvPicPr/>
          <p:nvPr/>
        </p:nvPicPr>
        <p:blipFill>
          <a:blip r:embed="rId4"/>
          <a:stretch/>
        </p:blipFill>
        <p:spPr>
          <a:xfrm>
            <a:off x="1600200" y="5334120"/>
            <a:ext cx="328464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9T06:38:34Z</dcterms:created>
  <dc:creator>Matsumoto Chieko</dc:creator>
  <dc:description/>
  <dc:language>en-US</dc:language>
  <cp:lastModifiedBy>Matsumoto Chieko</cp:lastModifiedBy>
  <dcterms:modified xsi:type="dcterms:W3CDTF">2018-06-19T06:39:06Z</dcterms:modified>
  <cp:revision>1</cp:revision>
  <dc:subject/>
  <dc:title>小テスト</dc:title>
</cp:coreProperties>
</file>