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212BF-0260-4F3C-8AD9-C7343E472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A2ED-243B-4E88-8F22-E6D43A49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8320E-AB90-43F9-A5A4-D85CEA974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E1FE5-B195-4C8E-9334-56FF877A1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84710-D512-4F45-A318-82A32E22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59F5-E35E-4302-805F-56E324162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2C12-745E-41C3-A3E4-6E1D9A2A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4638-3156-40CA-9F1F-2C9C6E95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7049-A7AD-4BB4-8AD6-793220CF8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3F23-129B-45CF-A612-2B3D5050C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E129B-713F-42AE-AC5A-59A3AD92A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CF6A-DAFB-4836-BFED-E1BC47FF8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8ABB8-A406-4B8F-BF46-CD2FC04F0183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小テスト１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相関係数の計算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alibri"/>
              </a:rPr>
              <a:t>散布図の作成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Calibri"/>
              </a:rPr>
              <a:t>小テスト解答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テキスト ボックス 5"/>
          <p:cNvSpPr/>
          <p:nvPr/>
        </p:nvSpPr>
        <p:spPr>
          <a:xfrm>
            <a:off x="571680" y="2214720"/>
            <a:ext cx="2786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相関係数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0.54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グラフ 4" descr=""/>
          <p:cNvPicPr/>
          <p:nvPr/>
        </p:nvPicPr>
        <p:blipFill>
          <a:blip r:embed="rId1"/>
          <a:stretch/>
        </p:blipFill>
        <p:spPr>
          <a:xfrm>
            <a:off x="3333600" y="1700280"/>
            <a:ext cx="55119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6-19T06:22:01Z</dcterms:created>
  <dc:creator>Matsumoto Chieko</dc:creator>
  <dc:description/>
  <dc:language>en-US</dc:language>
  <cp:lastModifiedBy>Matsumoto Chieko</cp:lastModifiedBy>
  <dcterms:modified xsi:type="dcterms:W3CDTF">2018-06-19T06:22:28Z</dcterms:modified>
  <cp:revision>1</cp:revision>
  <dc:subject/>
  <dc:title>小テスト１</dc:title>
</cp:coreProperties>
</file>