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13E-185C-40A7-9F5C-112802D6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178-5F37-450F-A4A1-ECCA779B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F70-3DD7-4CC5-AC8C-4784C124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1F2-DB83-452C-B4C2-B53AE876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EAD-4215-45C3-A227-01A18368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A84-DD5C-47E9-AD0C-7FA922DF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61B-BD35-46C6-B9DB-B2C5336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30A-0DEA-470F-8B8C-3019D64A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8B7-B826-401B-AF27-52CB0F93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171-905C-4DAE-80B4-54D5BECB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BFB-F633-4ED4-B8D6-22761B11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5D6-67DB-4767-861E-FB631375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5BC4A-F767-4863-A8FE-D8DECCDC64E7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560" y="1341000"/>
            <a:ext cx="79599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量的デー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身長、テストの点数、お菓子の価格、家から学校までの所要時間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ｍ走の記録、大気中の窒素酸化物の量、血圧、気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質的デー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統計検定の級、好き嫌い、出身県、天気、職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06:06:04Z</dcterms:created>
  <dc:creator>Matsumoto Chieko</dc:creator>
  <dc:description/>
  <dc:language>en-US</dc:language>
  <cp:lastModifiedBy>Matsumoto Chieko</cp:lastModifiedBy>
  <dcterms:modified xsi:type="dcterms:W3CDTF">2019-03-18T06:06:31Z</dcterms:modified>
  <cp:revision>1</cp:revision>
  <dc:subject/>
  <dc:title>小テスト</dc:title>
</cp:coreProperties>
</file>