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wmf" ContentType="image/x-wmf"/>
  <Override PartName="/ppt/media/image2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DBB6-F6D7-4F0E-AB1C-FB6D6149D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3382-4BE9-4A05-8CAF-C34B537DC66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76E3-3620-48B6-AB72-9D74A3DA7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教科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p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スライド番号プレースホルダー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2A4E-E7A1-4D90-9F62-F5F217450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590÷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29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http://d.hatena.ne.jp/Chikirin/200911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スライド番号プレースホル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322A-64F2-4A9A-AA5C-8E7642DD1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01FF-C84A-4EAF-8F70-BDD7B62BC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教科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p26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D413-353F-44CA-98A6-19C1AD331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データが小さいときは結構役に立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明朝"/>
            </a:endParaRPr>
          </a:p>
        </p:txBody>
      </p:sp>
      <p:sp>
        <p:nvSpPr>
          <p:cNvPr id="581" name="スライド番号プレースホルダー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0F89-9531-4029-8A08-600E8C11F9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四分位値の定義からいくと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EXCEL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のやり方の方が正しいような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…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スライド番号プレースホルダー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D53D-677A-4E64-A467-EE6749318BC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ヒンジを使う向きもあ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スライド番号プレースホル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2063-A656-46E2-BC2D-60FB452D3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位範囲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2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、そ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倍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8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上側限界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2.12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、下側限界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3.1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スライド番号プレースホル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C702-1A6F-43EE-BD23-D795C6D0E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明朝"/>
            </a:endParaRPr>
          </a:p>
        </p:txBody>
      </p:sp>
      <p:sp>
        <p:nvSpPr>
          <p:cNvPr id="593" name="スライド番号プレースホルダー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5F8F-133D-4152-A0C7-81CC038785A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左：東京、右：那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スライド番号プレースホル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113B-5EBC-4466-A493-BAD54D625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D63B-22C8-4C87-8A1D-FC765D36B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明朝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0C0C-69B9-4791-A397-4A3F4FC35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分散は２乗しているから平方根をとって標準偏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スライド番号プレースホル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4978-3DB4-4186-B456-0554D7318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１０の２倍は２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スライド番号プレースホルダー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9D5E-2A9A-4254-9ACB-EF3D0E12CB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F697-7713-4293-BFB9-37E649AF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8DB4-0450-403F-AF2E-4C7CE82E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893-1918-4E65-B76C-EF61642A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DE6-F644-4D22-BB46-A4E8187D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086E-DBB4-47B3-8374-7C246C74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520B-2273-4C5D-AC12-BEA3A0E9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255C-6407-4A55-ADF5-F961BB6F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0F15-D35E-4C89-8116-07C20AC0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9252-08D9-4085-B2A8-8A0C2335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E0A8-11FF-4855-8F22-870266FE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D910-880E-42AB-A182-D1699D99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3454-5A49-411C-AA43-2CB3D46E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3C45-B636-4FF0-A493-2F405F6B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454E-EC51-4998-B5E8-074E1A18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85B3-B76D-4CBD-8E76-97AE8131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A894-37DD-477A-ADC6-B7D3C599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FC1D-9025-419A-9A41-499279DF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AD542-D46E-4D8D-85EB-B1BB7966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AF774-EE4C-4B3C-A48E-B6D71E11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82F4D-3521-490F-97DF-AD996885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C0831-82E7-4F3E-9737-EB279C90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9C07A-1411-4A6C-ABCA-C9FAB4E2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01AC-A7C3-498E-8CA0-9F2CC2F7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AFA47-CB7A-4391-92D7-4D09F32B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9FC0C-C73E-47BB-BFA7-F4EDC2F9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4ED3E-6571-4887-A3A5-416D812A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8B347-4E4D-4E1A-B64D-26AE48EE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5F13C-B89D-4816-A5DB-FA29B41C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2E045-7D37-4E56-AE05-07219AF2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710C4-E04A-4282-BD4F-B60731F3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1614C-34DB-447B-AAA6-11EC465B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0C2E4-D425-47FC-91D6-415A68B6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C2263-6E63-42F0-B79F-B992F8AE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B57-50BE-4512-9B62-94169AD1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63D0B-E5E7-4080-BBF5-7D75EBB8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BFAFA-BC84-4BBD-8C7C-2E8E1AE6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6B107-ACDC-4FC6-AEFA-1A8F2A82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197A0-0671-46F7-A088-B5706E11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735DD-8CE0-4AF2-A6EA-E7B37369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7937F-C69A-4C82-A233-6004C05D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85A41-C325-423E-B764-B440457D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47E25-2F42-40C0-A2F2-0C0C9B7F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B470F-49B8-4B53-B24F-315B8A74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D8A74-1459-4EEA-9FD2-93A6891B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04CD-089B-480B-A7EE-FC485AAA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DCDEA-CEFC-477D-A855-1129F293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7397F-6991-4F64-878A-D5810628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F455E-21A3-4DD6-A3E7-86A91304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C7A8B-66F9-4425-B6C4-AF5B820C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E4124-541A-47A5-AA5D-D3A4ECD1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F8CC9-BCFA-47DD-AFC1-5F95FA6F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130F2-9240-4404-B889-1C90C2C8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6A69A-12B6-4885-B267-27AE1402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D6E85-CDDC-48D7-9A78-A6186009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F239C-BDA7-467D-9BFD-1F4C4D27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F3E9-70BB-4A62-8CE1-DCD5BF45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1939E-3894-463F-97F5-EB0AF905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C386F-3365-4BA7-B090-6EAD511E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7BC79-21A3-41BD-9E17-91DBC52E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D8C62-9D57-49BF-AF79-58B081CB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030F1-DA30-4788-8E98-1347EDC4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DE847-FFD3-4E9D-95A5-5F5E1692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7E76E-91CC-40ED-8FCF-2BBA1259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004A1-DBDF-40D2-8FA8-182F815E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44D33-6C63-4CB1-92CA-7D3A2B0B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BD534-C4E3-413E-BB01-677A3554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EB4-3220-4735-B053-497ADB03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50E02-59F0-4EFB-BA36-CA51C028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A5D44-6AAA-406A-86FB-12BF786C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ABC8E-3271-4D6F-983A-DFB151C5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AF4CA-9675-40DA-9F2E-0BFB3423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57976-FB97-4DA3-8A9E-B031A175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F673E-B342-4570-A6C7-A8B5D2A1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BA06E-F9A1-470A-9623-82588786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61BCD-FC24-42AE-83B9-06E63627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6261D-4D60-49F4-995F-E065327C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CBB18-FCF6-4C22-A677-D3042140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9AB8-80C9-4D84-872D-045495AB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F011B-A025-48E8-B924-A8D3C411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5758B-2862-4B63-97EE-54B0BDE9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AF0A8-4CDE-4B55-A0AB-ED5D0154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DC85F-B18D-45C1-826D-2890C911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DF1DD-1CAA-430D-8CFB-7C9F7E2C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744CA-3C3D-46C7-A06B-57198AEE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ED102-C48F-4023-8E59-260ABD01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911A2-D09E-4A78-94A4-49609992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81A3C-AE79-4882-B4DF-1AEFBFD7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08958-E986-4B36-A5A7-B042F314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F6A2-30EE-4A32-B34C-265F093A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764E3-92AD-4FD3-982F-9ACCB885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06F5D-FCCF-48B9-AA10-A74BFA20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A4875-13E4-4674-A74C-69ABA6E8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3B24C-8B71-4019-B7FE-A360250B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091F0-2B2B-4F74-962C-06A919F4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0542E-7949-4CC5-A993-541DFB2C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61894-1132-4202-B140-0CCBCB90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2B93-7263-43F0-A9E9-B25663AC3ED6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CA63-0471-402B-AFC9-CED5C38D3C19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ded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3ded1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91BA-E672-4AD1-AAFE-3B0ABC3339B3}" type="slidenum">
              <a:rPr b="0" lang="en-US" sz="14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938A-89FF-40AC-BB76-F244AFE94E0D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AE40-D25C-4DB5-9C2E-1FB8FBC3F46F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47A6-1A57-461B-8786-845ECCB34198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ded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3ded1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A260-3855-4B7B-859D-B97E68DDDAFB}" type="slidenum">
              <a:rPr b="0" lang="en-US" sz="14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5A85-1C05-4BAE-83A8-AC7C104E4CBA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統計学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23232"/>
                </a:solidFill>
                <a:latin typeface="ＭＳ Ｐゴシック"/>
              </a:rPr>
              <a:t>第２回　統計の基礎２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平均の性質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899640" y="1341000"/>
            <a:ext cx="80550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ヒストグラムが左右対称である場合、その対称軸の通る点が平均値にな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極端に外れている値があると、平均値はその値に「引っ張られて」しまう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平均＝データを平らに均した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中央値と最頻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920" y="1642680"/>
            <a:ext cx="865008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中央値：データを小さい順に並べたときに丁度真ん中にくるデータ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最頻値：最も重い頻度で出てくる（階級の度数が高い）データ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5" name="Picture 6" descr="D:\shisato\授業\txp_fig.png"/>
          <p:cNvPicPr/>
          <p:nvPr/>
        </p:nvPicPr>
        <p:blipFill>
          <a:blip r:embed="rId1"/>
          <a:stretch/>
        </p:blipFill>
        <p:spPr>
          <a:xfrm>
            <a:off x="357120" y="4071960"/>
            <a:ext cx="8458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図 7" descr="20100323-00001819-r25-001-1-view.jpg"/>
          <p:cNvPicPr/>
          <p:nvPr/>
        </p:nvPicPr>
        <p:blipFill>
          <a:blip r:embed="rId1"/>
          <a:stretch/>
        </p:blipFill>
        <p:spPr>
          <a:xfrm>
            <a:off x="928800" y="2071800"/>
            <a:ext cx="7500960" cy="45543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例（平均値、中央値、最頻値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曲線（度数折れ線）と代表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826560" y="1219320"/>
            <a:ext cx="78598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平均値：度数分布曲線の重心の横座標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座標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重心</a:t>
            </a:r>
            <a:r>
              <a:rPr b="0" lang="en-US" sz="2500" spc="-1" strike="noStrike">
                <a:solidFill>
                  <a:srgbClr val="323232"/>
                </a:solidFill>
                <a:latin typeface="Gill Sans MT"/>
              </a:rPr>
              <a:t>:</a:t>
            </a: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度数分布曲線を厚紙に書き写して切ったものを作成したときに、厚紙の釣り合いがとれる場所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中央値：度数分布曲線と横軸とで囲まれた部分の面積を考えたとき、面積をちょうど半分にする縦線の横座標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座標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最頻値：山の頂上の横座標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座標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中央値の利用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91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F9AD-E5D2-4314-8BD1-0FBF0BE3A7E9}" type="slidenum">
              <a:rPr b="0" lang="ja-JP" sz="1400" spc="-1" strike="noStrike">
                <a:solidFill>
                  <a:srgbClr val="3232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94920" y="1413000"/>
            <a:ext cx="8319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相対的貧困率：所得の</a:t>
            </a:r>
            <a:r>
              <a:rPr b="0" lang="ja-JP" sz="3600" spc="-1" strike="noStrike">
                <a:solidFill>
                  <a:srgbClr val="ff0000"/>
                </a:solidFill>
                <a:latin typeface="Gill Sans MT"/>
              </a:rPr>
              <a:t>中央値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の半分以下の所得しかない世帯の割合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所得＝可処分所得（実際に使える金額）を世帯の人数に応じて調整した額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中央値を使うことで、異常な値の影響を避ける効果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但し、中央値を使う場合、</a:t>
            </a:r>
            <a:r>
              <a:rPr b="0" lang="ja-JP" sz="3200" spc="-1" strike="noStrike" u="sng">
                <a:solidFill>
                  <a:srgbClr val="323232"/>
                </a:solidFill>
                <a:uFillTx/>
                <a:latin typeface="Gill Sans MT"/>
              </a:rPr>
              <a:t>中間層が崩壊すると相対的貧困率は改善される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という弱点があ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相対的貧困率の計算あれこれ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2560" y="1268280"/>
            <a:ext cx="892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トップ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割が金持ち国”の場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2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1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中央値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1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その半分が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55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貧困率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下位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割が貧乏人国”の場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8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6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3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中央値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8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その半分が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49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貧困率は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2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3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の人の給料を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2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上げるか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8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と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6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の人を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59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にすれば、相対的貧困率は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になる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表から平均を計算す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階級値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×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度数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÷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の総数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平均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但し、生データから計算した平均値と、度数分布表から計算した平均値は若干ずれ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度数分布表はデータの縮約の結果なので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でもまあ、実用に耐えうる範囲内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表から平均の計算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398" name="Picture 3" descr="D:\shisato\授業\txp_fig.png"/>
          <p:cNvPicPr/>
          <p:nvPr/>
        </p:nvPicPr>
        <p:blipFill>
          <a:blip r:embed="rId1"/>
          <a:stretch/>
        </p:blipFill>
        <p:spPr>
          <a:xfrm>
            <a:off x="1295280" y="1905120"/>
            <a:ext cx="4902480" cy="269244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4"/>
          <p:cNvSpPr/>
          <p:nvPr/>
        </p:nvSpPr>
        <p:spPr>
          <a:xfrm>
            <a:off x="533520" y="5029200"/>
            <a:ext cx="8076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級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度数の計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6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度数分布表からの平均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7.7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6324480" y="2971800"/>
            <a:ext cx="2590920" cy="2286000"/>
          </a:xfrm>
          <a:prstGeom prst="wedgeRectCallout">
            <a:avLst>
              <a:gd name="adj1" fmla="val -92097"/>
              <a:gd name="adj2" fmla="val 502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階級の中に入っているデータは全て階級値の値であるとみて計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ookman Old Style"/>
              </a:rPr>
              <a:t>順序統計量と箱ひげ図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順序統計量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09480" y="1557360"/>
            <a:ext cx="83455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を、値の小さい順に並べたときの統計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最大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最小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中央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四分位値（四分位数）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レンジ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四分位範囲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授業内容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平均・中央値・最頻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順序統計量と箱ひげ図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分散と標準偏差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レンジ（範囲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05" name="Picture 3" descr="D:\shisato\授業\txp_fig.png"/>
          <p:cNvPicPr/>
          <p:nvPr/>
        </p:nvPicPr>
        <p:blipFill>
          <a:blip r:embed="rId1"/>
          <a:stretch/>
        </p:blipFill>
        <p:spPr>
          <a:xfrm>
            <a:off x="1763640" y="1628640"/>
            <a:ext cx="5105520" cy="5605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4"/>
          <p:cNvSpPr/>
          <p:nvPr/>
        </p:nvSpPr>
        <p:spPr>
          <a:xfrm>
            <a:off x="1476360" y="24210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が分布する幅を表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304920" y="364500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計算が楽なので、データが小さい時は分散の代わりとして役に立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も、最大値と最小値以外のデータは無視することになるので、データが大きい時に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中央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560" y="1557360"/>
            <a:ext cx="845820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中央値：データを小さい順に並べたときに丁度真ん中にくるデータ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もちろん、「大きい順に並べたときに丁度真ん中にくる値」でも可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pic>
        <p:nvPicPr>
          <p:cNvPr id="410" name="Picture 4" descr="D:\shisato\授業\txp_fig.png"/>
          <p:cNvPicPr/>
          <p:nvPr/>
        </p:nvPicPr>
        <p:blipFill>
          <a:blip r:embed="rId1"/>
          <a:stretch/>
        </p:blipFill>
        <p:spPr>
          <a:xfrm>
            <a:off x="457200" y="4572000"/>
            <a:ext cx="8458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四分位値（四分位数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50920" y="1268280"/>
            <a:ext cx="8678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四分位値（四分位数）：データを小さい順に並べ、</a:t>
            </a:r>
            <a:r>
              <a:rPr b="0" lang="ja-JP" sz="3200" spc="-1" strike="noStrike">
                <a:solidFill>
                  <a:srgbClr val="ff0000"/>
                </a:solidFill>
                <a:latin typeface="Gill Sans MT"/>
              </a:rPr>
              <a:t>四等分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したとき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第３（上側）四分位値：中央値で２つに分けたデータの、上半分の中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第１（下側）四分位値：中央値で２つに分けたデータの、下半分の中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四分位範囲：第３（上側）四分位値と第１（下側）四分位値の差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28028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五数要約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79280" y="1267920"/>
            <a:ext cx="8640720" cy="53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五数要約：最小値、第１四分位数、中央値、第３四分位数、最小値の５つの統計量でデータを説明すること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最小値：一番小さい値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最大値：一番大きい値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範囲：最大値－最小値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中央値：データを小さい順に並べたときに真ん中にくる値（第２四分位数）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四分位数：データを小さい順に並べ、</a:t>
            </a:r>
            <a:r>
              <a:rPr b="1" lang="ja-JP" sz="2500" spc="-1" strike="noStrike">
                <a:solidFill>
                  <a:srgbClr val="ff0000"/>
                </a:solidFill>
                <a:latin typeface="Gill Sans MT"/>
              </a:rPr>
              <a:t>四等分</a:t>
            </a: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したときの値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第１四分位数：中央値で２つに分けたデータの、下半分の中央値（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25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％）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第３四分位数：中央値で２つに分けたデータの、上半分の中央値（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75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％）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四分位範囲：第３（上側）四分位数と第１（下側）四分位数との差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四分位偏差：四分位範囲の半分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13916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高校の教科書では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22360" y="1413000"/>
            <a:ext cx="83692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データの個数が偶数個の場合、中央値で２つのグループに分け、それぞれのグループの中央値を四分位値にす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データの個数が奇数個の場合、中央値を除外して２つのグループに分け、それぞれのグループの中央値を四分位値にす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7" name="図 1" descr=""/>
          <p:cNvPicPr/>
          <p:nvPr/>
        </p:nvPicPr>
        <p:blipFill>
          <a:blip r:embed="rId1"/>
          <a:stretch/>
        </p:blipFill>
        <p:spPr>
          <a:xfrm>
            <a:off x="1979640" y="3429000"/>
            <a:ext cx="54529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EXCEL</a:t>
            </a: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による四分位値の計算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755280" y="1277640"/>
            <a:ext cx="820908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第１（下側）四分位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QUARTILE(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の範囲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,1)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PERCENTILE(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の範囲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,0.25)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第３（上側）四分位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QUARTILE(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の範囲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,3)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PERCENTILE(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の範囲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,0.75)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pic>
        <p:nvPicPr>
          <p:cNvPr id="420" name="Picture 6" descr="D:\shisato\授業\txp_fig.png"/>
          <p:cNvPicPr/>
          <p:nvPr/>
        </p:nvPicPr>
        <p:blipFill>
          <a:blip r:embed="rId1"/>
          <a:stretch/>
        </p:blipFill>
        <p:spPr>
          <a:xfrm>
            <a:off x="1187280" y="4076640"/>
            <a:ext cx="6856560" cy="2158920"/>
          </a:xfrm>
          <a:prstGeom prst="rect">
            <a:avLst/>
          </a:prstGeom>
          <a:ln w="0">
            <a:noFill/>
          </a:ln>
        </p:spPr>
      </p:pic>
      <p:sp>
        <p:nvSpPr>
          <p:cNvPr id="421" name="角丸四角形吹き出し 1"/>
          <p:cNvSpPr/>
          <p:nvPr/>
        </p:nvSpPr>
        <p:spPr>
          <a:xfrm>
            <a:off x="5364000" y="2637000"/>
            <a:ext cx="3672000" cy="1008000"/>
          </a:xfrm>
          <a:prstGeom prst="wedgeRoundRectCallout">
            <a:avLst>
              <a:gd name="adj1" fmla="val -25541"/>
              <a:gd name="adj2" fmla="val 105185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パーセント点の計算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合わせ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74280" y="404640"/>
            <a:ext cx="77202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EXCEL</a:t>
            </a: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と数学</a:t>
            </a: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I</a:t>
            </a: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での４分位の違い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23" name="図 3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105080" cy="2089080"/>
          </a:xfrm>
          <a:prstGeom prst="rect">
            <a:avLst/>
          </a:prstGeom>
          <a:ln w="0">
            <a:noFill/>
          </a:ln>
        </p:spPr>
      </p:pic>
      <p:pic>
        <p:nvPicPr>
          <p:cNvPr id="424" name="図 5" descr=""/>
          <p:cNvPicPr/>
          <p:nvPr/>
        </p:nvPicPr>
        <p:blipFill>
          <a:blip r:embed="rId2"/>
          <a:stretch/>
        </p:blipFill>
        <p:spPr>
          <a:xfrm>
            <a:off x="644400" y="3933720"/>
            <a:ext cx="4037040" cy="20512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971960" y="1773000"/>
            <a:ext cx="31291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上：数学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下：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C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パーセント点（パーセンタイル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23640" y="1413000"/>
            <a:ext cx="863100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を小さい順に並べた時、その値よりも小さな値の割合が指定された割合になる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：その値より小さいデータが全体の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になる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5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＝中央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＝最小値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=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最大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上側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4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分位値＝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75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、下側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4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分位値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=25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表とパーセント点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2133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累積相対度数を用いると、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分位値がどこにあるかが分か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" name="図 3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6591240" cy="2376720"/>
          </a:xfrm>
          <a:prstGeom prst="rect">
            <a:avLst/>
          </a:prstGeom>
          <a:ln w="0">
            <a:noFill/>
          </a:ln>
        </p:spPr>
      </p:pic>
      <p:sp>
        <p:nvSpPr>
          <p:cNvPr id="431" name="角丸四角形吹き出し 4"/>
          <p:cNvSpPr/>
          <p:nvPr/>
        </p:nvSpPr>
        <p:spPr>
          <a:xfrm>
            <a:off x="6770520" y="4795920"/>
            <a:ext cx="2194200" cy="396720"/>
          </a:xfrm>
          <a:prstGeom prst="wedgeRoundRectCallout">
            <a:avLst>
              <a:gd name="adj1" fmla="val -76023"/>
              <a:gd name="adj2" fmla="val -9953"/>
              <a:gd name="adj3" fmla="val 1666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中央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角丸四角形吹き出し 5"/>
          <p:cNvSpPr/>
          <p:nvPr/>
        </p:nvSpPr>
        <p:spPr>
          <a:xfrm>
            <a:off x="6770520" y="5345280"/>
            <a:ext cx="2194200" cy="395280"/>
          </a:xfrm>
          <a:prstGeom prst="wedgeRoundRectCallout">
            <a:avLst>
              <a:gd name="adj1" fmla="val -74333"/>
              <a:gd name="adj2" fmla="val -103555"/>
              <a:gd name="adj3" fmla="val 1666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上側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分位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角丸四角形吹き出し 6"/>
          <p:cNvSpPr/>
          <p:nvPr/>
        </p:nvSpPr>
        <p:spPr>
          <a:xfrm>
            <a:off x="6770520" y="4255920"/>
            <a:ext cx="2194200" cy="397080"/>
          </a:xfrm>
          <a:prstGeom prst="wedgeRoundRectCallout">
            <a:avLst>
              <a:gd name="adj1" fmla="val -77712"/>
              <a:gd name="adj2" fmla="val 77407"/>
              <a:gd name="adj3" fmla="val 1666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下側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分位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角丸四角形吹き出し 7"/>
          <p:cNvSpPr/>
          <p:nvPr/>
        </p:nvSpPr>
        <p:spPr>
          <a:xfrm>
            <a:off x="6794640" y="3608280"/>
            <a:ext cx="2193840" cy="395280"/>
          </a:xfrm>
          <a:prstGeom prst="wedgeRoundRectCallout">
            <a:avLst>
              <a:gd name="adj1" fmla="val -65884"/>
              <a:gd name="adj2" fmla="val 46208"/>
              <a:gd name="adj3" fmla="val 1666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最小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角丸四角形吹き出し 8"/>
          <p:cNvSpPr/>
          <p:nvPr/>
        </p:nvSpPr>
        <p:spPr>
          <a:xfrm>
            <a:off x="6794640" y="6056280"/>
            <a:ext cx="2193840" cy="397080"/>
          </a:xfrm>
          <a:prstGeom prst="wedgeRoundRectCallout">
            <a:avLst>
              <a:gd name="adj1" fmla="val -87847"/>
              <a:gd name="adj2" fmla="val -75476"/>
              <a:gd name="adj3" fmla="val 1666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最大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グラフ 11" descr=""/>
          <p:cNvPicPr/>
          <p:nvPr/>
        </p:nvPicPr>
        <p:blipFill>
          <a:blip r:embed="rId1"/>
          <a:stretch/>
        </p:blipFill>
        <p:spPr>
          <a:xfrm>
            <a:off x="2895480" y="2706840"/>
            <a:ext cx="5658120" cy="367488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280" y="23400"/>
            <a:ext cx="7597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累積相対度数で度数折れ線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84360" y="1412640"/>
            <a:ext cx="77104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累積相対度数で度数折れ線を描く→四分位数、パーセント点がどの辺りにあるか分か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楕円 4"/>
          <p:cNvSpPr/>
          <p:nvPr/>
        </p:nvSpPr>
        <p:spPr>
          <a:xfrm>
            <a:off x="2909880" y="4508640"/>
            <a:ext cx="333360" cy="215640"/>
          </a:xfrm>
          <a:prstGeom prst="ellipse">
            <a:avLst/>
          </a:prstGeom>
          <a:noFill/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直線矢印コネクタ 6"/>
          <p:cNvCxnSpPr/>
          <p:nvPr/>
        </p:nvCxnSpPr>
        <p:spPr>
          <a:xfrm>
            <a:off x="3242880" y="4608000"/>
            <a:ext cx="2592720" cy="1080"/>
          </a:xfrm>
          <a:prstGeom prst="straightConnector1">
            <a:avLst/>
          </a:prstGeom>
          <a:ln w="44280">
            <a:solidFill>
              <a:srgbClr val="f07f09"/>
            </a:solidFill>
            <a:miter/>
            <a:tailEnd len="med" type="triangle" w="med"/>
          </a:ln>
        </p:spPr>
      </p:cxnSp>
      <p:cxnSp>
        <p:nvCxnSpPr>
          <p:cNvPr id="441" name="直線矢印コネクタ 9"/>
          <p:cNvCxnSpPr/>
          <p:nvPr/>
        </p:nvCxnSpPr>
        <p:spPr>
          <a:xfrm>
            <a:off x="5800320" y="4581000"/>
            <a:ext cx="1080" cy="1512360"/>
          </a:xfrm>
          <a:prstGeom prst="straightConnector1">
            <a:avLst/>
          </a:prstGeom>
          <a:ln w="44280">
            <a:solidFill>
              <a:srgbClr val="f07f09"/>
            </a:solidFill>
            <a:miter/>
            <a:tailEnd len="med" type="triangle" w="med"/>
          </a:ln>
        </p:spPr>
      </p:cxnSp>
      <p:sp>
        <p:nvSpPr>
          <p:cNvPr id="442" name="吹き出し: 角を丸めた四角形 10"/>
          <p:cNvSpPr/>
          <p:nvPr/>
        </p:nvSpPr>
        <p:spPr>
          <a:xfrm>
            <a:off x="324000" y="4307040"/>
            <a:ext cx="2259000" cy="2060280"/>
          </a:xfrm>
          <a:prstGeom prst="wedgeRoundRectCallout">
            <a:avLst>
              <a:gd name="adj1" fmla="val 60513"/>
              <a:gd name="adj2" fmla="val -33384"/>
              <a:gd name="adj3" fmla="val 1666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累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相対度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箱ひげ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データの特徴を捉えるには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グラフ化してその特徴を捉え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統計図表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ヒストグラム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一つの数字で特徴を代表させる（統計量）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平均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分散、標準偏差、</a:t>
            </a:r>
            <a:r>
              <a:rPr b="0" lang="en-US" sz="2300" spc="-1" strike="noStrike">
                <a:solidFill>
                  <a:srgbClr val="323232"/>
                </a:solidFill>
                <a:latin typeface="Gill Sans MT"/>
              </a:rPr>
              <a:t>etc</a:t>
            </a:r>
            <a:r>
              <a:rPr b="0" lang="en-US" sz="2300" spc="-1" strike="noStrike">
                <a:solidFill>
                  <a:srgbClr val="323232"/>
                </a:solidFill>
                <a:latin typeface="Times New Roman"/>
              </a:rPr>
              <a:t>…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計算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79280" y="134100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データ：　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2,3,5,7,11,13,17,19,23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最小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2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最大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23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中央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1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第１（下側）４分位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5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（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8×0.25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＋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＝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3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番目）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Gill Sans MT"/>
              </a:rPr>
              <a:t>高校の教科書通り計算すると、</a:t>
            </a: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第３（上側）４分位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7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（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8×0.75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＋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＝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7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番目）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Gill Sans MT"/>
              </a:rPr>
              <a:t>高校の教科書通り計算すると、</a:t>
            </a: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18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レンジ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21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　（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23-2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四分位範囲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2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　（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7-5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graphicFrame>
        <p:nvGraphicFramePr>
          <p:cNvPr id="446" name="Object 3"/>
          <p:cNvGraphicFramePr/>
          <p:nvPr/>
        </p:nvGraphicFramePr>
        <p:xfrm>
          <a:off x="152280" y="2133720"/>
          <a:ext cx="8763120" cy="265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33720"/>
                    <a:ext cx="8763120" cy="26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4"/>
          <p:cNvSpPr/>
          <p:nvPr/>
        </p:nvSpPr>
        <p:spPr>
          <a:xfrm>
            <a:off x="685800" y="5029200"/>
            <a:ext cx="75438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箱ひげ図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 Wisker Diagra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：順序統計量を用いてデータのばらつきや偏りを表した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と四分位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94920" y="1412640"/>
            <a:ext cx="8559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箱ひげ図：四分位数を利用して描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色々な描き方があ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四分位の計算方法による違い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ひげの伸ばし方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最大値、最小値まで（外れ値を考えない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四分位範囲の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5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倍を利用（外れ値を考える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パーセント点（データの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％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95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％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が表すもの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graphicFrame>
        <p:nvGraphicFramePr>
          <p:cNvPr id="452" name="Object 3"/>
          <p:cNvGraphicFramePr/>
          <p:nvPr/>
        </p:nvGraphicFramePr>
        <p:xfrm>
          <a:off x="142920" y="3143160"/>
          <a:ext cx="8763120" cy="26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3143160"/>
                    <a:ext cx="8763120" cy="26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線吹き出し 1 (枠付き) 4"/>
          <p:cNvSpPr/>
          <p:nvPr/>
        </p:nvSpPr>
        <p:spPr>
          <a:xfrm>
            <a:off x="142920" y="1785960"/>
            <a:ext cx="1928880" cy="1285920"/>
          </a:xfrm>
          <a:prstGeom prst="borderCallout1">
            <a:avLst>
              <a:gd name="adj1" fmla="val 18750"/>
              <a:gd name="adj2" fmla="val -8333"/>
              <a:gd name="adj3" fmla="val 181898"/>
              <a:gd name="adj4" fmla="val 2022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４分位範囲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下側限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線吹き出し 1 (枠付き) 5"/>
          <p:cNvSpPr/>
          <p:nvPr/>
        </p:nvSpPr>
        <p:spPr>
          <a:xfrm>
            <a:off x="7215120" y="6000840"/>
            <a:ext cx="1317600" cy="500040"/>
          </a:xfrm>
          <a:prstGeom prst="borderCallout1">
            <a:avLst>
              <a:gd name="adj1" fmla="val 18750"/>
              <a:gd name="adj2" fmla="val -8333"/>
              <a:gd name="adj3" fmla="val -350018"/>
              <a:gd name="adj4" fmla="val -385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れ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線吹き出し 1 (枠付き) 6"/>
          <p:cNvSpPr/>
          <p:nvPr/>
        </p:nvSpPr>
        <p:spPr>
          <a:xfrm>
            <a:off x="2143080" y="1928880"/>
            <a:ext cx="2214720" cy="785880"/>
          </a:xfrm>
          <a:prstGeom prst="borderCallout1">
            <a:avLst>
              <a:gd name="adj1" fmla="val 18750"/>
              <a:gd name="adj2" fmla="val -8333"/>
              <a:gd name="adj3" fmla="val 228861"/>
              <a:gd name="adj4" fmla="val -5079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れ値を除い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小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線吹き出し 1 (枠付き) 7"/>
          <p:cNvSpPr/>
          <p:nvPr/>
        </p:nvSpPr>
        <p:spPr>
          <a:xfrm>
            <a:off x="4500720" y="1928880"/>
            <a:ext cx="2214360" cy="785880"/>
          </a:xfrm>
          <a:prstGeom prst="borderCallout1">
            <a:avLst>
              <a:gd name="adj1" fmla="val 18750"/>
              <a:gd name="adj2" fmla="val -8333"/>
              <a:gd name="adj3" fmla="val 228861"/>
              <a:gd name="adj4" fmla="val 362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れ値を除い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大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線吹き出し 1 (枠付き) 8"/>
          <p:cNvSpPr/>
          <p:nvPr/>
        </p:nvSpPr>
        <p:spPr>
          <a:xfrm>
            <a:off x="6929280" y="1857240"/>
            <a:ext cx="1857600" cy="1285920"/>
          </a:xfrm>
          <a:prstGeom prst="borderCallout1">
            <a:avLst>
              <a:gd name="adj1" fmla="val 18750"/>
              <a:gd name="adj2" fmla="val -8333"/>
              <a:gd name="adj3" fmla="val 181041"/>
              <a:gd name="adj4" fmla="val -9453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分位範囲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上側限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線吹き出し 1 (枠付き) 9"/>
          <p:cNvSpPr/>
          <p:nvPr/>
        </p:nvSpPr>
        <p:spPr>
          <a:xfrm>
            <a:off x="5286240" y="5857920"/>
            <a:ext cx="1285920" cy="785880"/>
          </a:xfrm>
          <a:prstGeom prst="borderCallout1">
            <a:avLst>
              <a:gd name="adj1" fmla="val 18750"/>
              <a:gd name="adj2" fmla="val -8333"/>
              <a:gd name="adj3" fmla="val -193810"/>
              <a:gd name="adj4" fmla="val -147092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上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分位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線吹き出し 1 (枠付き) 10"/>
          <p:cNvSpPr/>
          <p:nvPr/>
        </p:nvSpPr>
        <p:spPr>
          <a:xfrm>
            <a:off x="214200" y="5857920"/>
            <a:ext cx="1285920" cy="785880"/>
          </a:xfrm>
          <a:prstGeom prst="borderCallout1">
            <a:avLst>
              <a:gd name="adj1" fmla="val 18750"/>
              <a:gd name="adj2" fmla="val -8333"/>
              <a:gd name="adj3" fmla="val -157870"/>
              <a:gd name="adj4" fmla="val 156949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下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分位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線吹き出し 1 (枠付き) 11"/>
          <p:cNvSpPr/>
          <p:nvPr/>
        </p:nvSpPr>
        <p:spPr>
          <a:xfrm>
            <a:off x="2857680" y="6000840"/>
            <a:ext cx="1285560" cy="571320"/>
          </a:xfrm>
          <a:prstGeom prst="borderCallout1">
            <a:avLst>
              <a:gd name="adj1" fmla="val 18750"/>
              <a:gd name="adj2" fmla="val -8333"/>
              <a:gd name="adj3" fmla="val -209421"/>
              <a:gd name="adj4" fmla="val -2324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中央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図 4" descr="数直線グラフ.bmp"/>
          <p:cNvPicPr/>
          <p:nvPr/>
        </p:nvPicPr>
        <p:blipFill>
          <a:blip r:embed="rId1"/>
          <a:stretch/>
        </p:blipFill>
        <p:spPr>
          <a:xfrm>
            <a:off x="592200" y="836640"/>
            <a:ext cx="5819760" cy="561672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7684920" cy="13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身長データを用いた</a:t>
            </a:r>
            <a:br>
              <a:rPr sz="3200"/>
            </a:b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の作成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64" name="Picture 1027" descr="D:\shisato\授業\txp_fig.png"/>
          <p:cNvPicPr/>
          <p:nvPr/>
        </p:nvPicPr>
        <p:blipFill>
          <a:blip r:embed="rId2"/>
          <a:stretch/>
        </p:blipFill>
        <p:spPr>
          <a:xfrm>
            <a:off x="6804000" y="189000"/>
            <a:ext cx="2095560" cy="6375240"/>
          </a:xfrm>
          <a:prstGeom prst="rect">
            <a:avLst/>
          </a:prstGeom>
          <a:ln w="0">
            <a:noFill/>
          </a:ln>
        </p:spPr>
      </p:pic>
      <p:sp>
        <p:nvSpPr>
          <p:cNvPr id="465" name="直線コネクタ 6"/>
          <p:cNvSpPr/>
          <p:nvPr/>
        </p:nvSpPr>
        <p:spPr>
          <a:xfrm>
            <a:off x="3564000" y="3645000"/>
            <a:ext cx="0" cy="187164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線コネクタ 7"/>
          <p:cNvSpPr/>
          <p:nvPr/>
        </p:nvSpPr>
        <p:spPr>
          <a:xfrm flipH="1">
            <a:off x="4356000" y="3645000"/>
            <a:ext cx="7920" cy="186372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線コネクタ 9"/>
          <p:cNvSpPr/>
          <p:nvPr/>
        </p:nvSpPr>
        <p:spPr>
          <a:xfrm>
            <a:off x="2916360" y="3645000"/>
            <a:ext cx="0" cy="187164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線コネクタ 11"/>
          <p:cNvSpPr/>
          <p:nvPr/>
        </p:nvSpPr>
        <p:spPr>
          <a:xfrm>
            <a:off x="2916360" y="3645000"/>
            <a:ext cx="1439640" cy="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線コネクタ 12"/>
          <p:cNvSpPr/>
          <p:nvPr/>
        </p:nvSpPr>
        <p:spPr>
          <a:xfrm>
            <a:off x="2916360" y="5445000"/>
            <a:ext cx="1439640" cy="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線コネクタ 14"/>
          <p:cNvSpPr/>
          <p:nvPr/>
        </p:nvSpPr>
        <p:spPr>
          <a:xfrm>
            <a:off x="826920" y="4292640"/>
            <a:ext cx="0" cy="936720"/>
          </a:xfrm>
          <a:prstGeom prst="line">
            <a:avLst/>
          </a:prstGeom>
          <a:ln w="38160">
            <a:solidFill>
              <a:srgbClr val="f07f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線コネクタ 15"/>
          <p:cNvSpPr/>
          <p:nvPr/>
        </p:nvSpPr>
        <p:spPr>
          <a:xfrm>
            <a:off x="6227640" y="4292640"/>
            <a:ext cx="0" cy="936720"/>
          </a:xfrm>
          <a:prstGeom prst="line">
            <a:avLst/>
          </a:prstGeom>
          <a:ln w="38160">
            <a:solidFill>
              <a:srgbClr val="f07f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線コネクタ 18"/>
          <p:cNvSpPr/>
          <p:nvPr/>
        </p:nvSpPr>
        <p:spPr>
          <a:xfrm>
            <a:off x="1332000" y="4076640"/>
            <a:ext cx="0" cy="108108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線コネクタ 19"/>
          <p:cNvSpPr/>
          <p:nvPr/>
        </p:nvSpPr>
        <p:spPr>
          <a:xfrm>
            <a:off x="6012000" y="4221000"/>
            <a:ext cx="0" cy="107964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直線コネクタ 21"/>
          <p:cNvSpPr/>
          <p:nvPr/>
        </p:nvSpPr>
        <p:spPr>
          <a:xfrm>
            <a:off x="1332000" y="4581360"/>
            <a:ext cx="1584360" cy="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直線コネクタ 22"/>
          <p:cNvSpPr/>
          <p:nvPr/>
        </p:nvSpPr>
        <p:spPr>
          <a:xfrm>
            <a:off x="4284720" y="4581360"/>
            <a:ext cx="1727280" cy="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Chart 1" descr=""/>
          <p:cNvPicPr/>
          <p:nvPr/>
        </p:nvPicPr>
        <p:blipFill>
          <a:blip r:embed="rId3"/>
          <a:stretch/>
        </p:blipFill>
        <p:spPr>
          <a:xfrm>
            <a:off x="176040" y="695160"/>
            <a:ext cx="648684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を使うと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11280" y="1268280"/>
            <a:ext cx="815184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の散らばり具合、集中具合が一目で分か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中央値の位置により、データが対称かそうでないかを知ることができ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四分位値と四分位範囲を使った基準により、外れ値を見つけ、表示することができ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三つ以上のデータ集合を比較するのに便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つ以上の項目で層別されたデータを表すのに便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072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の見方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50520" y="1412640"/>
            <a:ext cx="8304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箱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大きさ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真ん中の線（中央値）の位置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ひげ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長さ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対称性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全体的に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大きさ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外れ値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対称性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の強み、ヒストグラムの強み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80720" y="1484280"/>
            <a:ext cx="850572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箱ひげ図の強み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順序統計量だけで書ける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ヒストグラム：度数分布表（データの集計）が必要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複数のデータ・層別データを比較するときに便利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ヒストグラムの強み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複数のピーク（山・峰）を持つデータ分布を表現できる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箱ひげ図：箱がひげより長く、いびつなグラフになる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データの分布状態（山・最頻値）がより良く分かる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6560" y="620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２つの山があるデータ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84" name="図 3" descr=""/>
          <p:cNvPicPr/>
          <p:nvPr/>
        </p:nvPicPr>
        <p:blipFill>
          <a:blip r:embed="rId1"/>
          <a:stretch/>
        </p:blipFill>
        <p:spPr>
          <a:xfrm>
            <a:off x="4567320" y="2924280"/>
            <a:ext cx="4181400" cy="3060720"/>
          </a:xfrm>
          <a:prstGeom prst="rect">
            <a:avLst/>
          </a:prstGeom>
          <a:ln w="0">
            <a:noFill/>
          </a:ln>
        </p:spPr>
      </p:pic>
      <p:pic>
        <p:nvPicPr>
          <p:cNvPr id="485" name="図 4" descr=""/>
          <p:cNvPicPr/>
          <p:nvPr/>
        </p:nvPicPr>
        <p:blipFill>
          <a:blip r:embed="rId2"/>
          <a:stretch/>
        </p:blipFill>
        <p:spPr>
          <a:xfrm>
            <a:off x="358920" y="2924280"/>
            <a:ext cx="41814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656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とヒストグラム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8360" y="1268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足の大きさを、性別・年齢別で比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ヒストグラムを描くと結構面倒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６種類描く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色分けをする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  <p:pic>
        <p:nvPicPr>
          <p:cNvPr id="488" name="図 6" descr=""/>
          <p:cNvPicPr/>
          <p:nvPr/>
        </p:nvPicPr>
        <p:blipFill>
          <a:blip r:embed="rId1"/>
          <a:stretch/>
        </p:blipFill>
        <p:spPr>
          <a:xfrm>
            <a:off x="3780000" y="2492280"/>
            <a:ext cx="49068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統計量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09480" y="2642760"/>
            <a:ext cx="77724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のどんな類の特徴を要約したいのか？　によって、様々な統計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平均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分散、標準偏差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中央値、最頻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357120" y="164304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285920" y="1571760"/>
            <a:ext cx="7477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データの特徴を一つの数字に要約したも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ookman Old Style"/>
              </a:rPr>
              <a:t>分散と標準偏差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データ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91" name="図 5" descr="txp_fig.png"/>
          <p:cNvPicPr/>
          <p:nvPr/>
        </p:nvPicPr>
        <p:blipFill>
          <a:blip r:embed="rId1"/>
          <a:stretch/>
        </p:blipFill>
        <p:spPr>
          <a:xfrm>
            <a:off x="4143240" y="3714840"/>
            <a:ext cx="4287960" cy="1428840"/>
          </a:xfrm>
          <a:prstGeom prst="rect">
            <a:avLst/>
          </a:prstGeom>
          <a:ln w="0">
            <a:noFill/>
          </a:ln>
        </p:spPr>
      </p:pic>
      <p:pic>
        <p:nvPicPr>
          <p:cNvPr id="492" name="図 7" descr="txp_fig.png"/>
          <p:cNvPicPr/>
          <p:nvPr/>
        </p:nvPicPr>
        <p:blipFill>
          <a:blip r:embed="rId2"/>
          <a:stretch/>
        </p:blipFill>
        <p:spPr>
          <a:xfrm>
            <a:off x="428760" y="500040"/>
            <a:ext cx="2786040" cy="5975280"/>
          </a:xfrm>
          <a:prstGeom prst="rect">
            <a:avLst/>
          </a:prstGeom>
          <a:ln w="0">
            <a:noFill/>
          </a:ln>
        </p:spPr>
      </p:pic>
      <p:sp>
        <p:nvSpPr>
          <p:cNvPr id="493" name="テキスト ボックス 8"/>
          <p:cNvSpPr/>
          <p:nvPr/>
        </p:nvSpPr>
        <p:spPr>
          <a:xfrm>
            <a:off x="4000680" y="171468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東京と那覇の気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データ例（ヒストグラム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95" name="グラフ 4" descr=""/>
          <p:cNvPicPr/>
          <p:nvPr/>
        </p:nvPicPr>
        <p:blipFill>
          <a:blip r:embed="rId1"/>
          <a:stretch/>
        </p:blipFill>
        <p:spPr>
          <a:xfrm>
            <a:off x="281160" y="1573200"/>
            <a:ext cx="4290840" cy="4784760"/>
          </a:xfrm>
          <a:prstGeom prst="rect">
            <a:avLst/>
          </a:prstGeom>
          <a:ln w="0">
            <a:noFill/>
          </a:ln>
        </p:spPr>
      </p:pic>
      <p:pic>
        <p:nvPicPr>
          <p:cNvPr id="496" name="グラフ 5" descr=""/>
          <p:cNvPicPr/>
          <p:nvPr/>
        </p:nvPicPr>
        <p:blipFill>
          <a:blip r:embed="rId2"/>
          <a:stretch/>
        </p:blipFill>
        <p:spPr>
          <a:xfrm>
            <a:off x="4638600" y="1573200"/>
            <a:ext cx="42926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世の中には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50560" y="1268280"/>
            <a:ext cx="87138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ヒストグラムを作ると、形が違うデータセットが多々あります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細長かったりぺたんこだったり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「データのバラツキ具合（散布度）」が違う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そのような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『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の違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』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を表す統計量はあるだろうか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一々ヒストグラムで表していたら、スペースがもったいない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平均からの距離（偏差）であらわす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プラスマイナスの効果を打ち消すことを忘れずに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偏差平方和（変動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6784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から、データの平均を引いて２乗したものの総和（２乗平均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「平均からのズレ」の総和を表す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からデータの平均を引いたものの総和は０になってしまうので、「平均からのズレ」の指標に適さない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偏差平方和は、データの大きさが大きいほど、大きくなってしまう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pic>
        <p:nvPicPr>
          <p:cNvPr id="501" name="Picture 4" descr="D:\shisato\授業\txp_fig.png"/>
          <p:cNvPicPr/>
          <p:nvPr/>
        </p:nvPicPr>
        <p:blipFill>
          <a:blip r:embed="rId1"/>
          <a:stretch/>
        </p:blipFill>
        <p:spPr>
          <a:xfrm>
            <a:off x="1066680" y="5030640"/>
            <a:ext cx="755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分散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03" name="Picture 3" descr="D:\shisato\授業\txp_fig.png"/>
          <p:cNvPicPr/>
          <p:nvPr/>
        </p:nvPicPr>
        <p:blipFill>
          <a:blip r:embed="rId1"/>
          <a:srcRect l="-3329" t="-9766" r="-3329" b="-9766"/>
          <a:stretch/>
        </p:blipFill>
        <p:spPr>
          <a:xfrm>
            <a:off x="1898640" y="2050920"/>
            <a:ext cx="5094360" cy="19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4" name="Picture 4" descr="D:\shisato\授業\txp_fig.png"/>
          <p:cNvPicPr/>
          <p:nvPr/>
        </p:nvPicPr>
        <p:blipFill>
          <a:blip r:embed="rId2"/>
          <a:stretch/>
        </p:blipFill>
        <p:spPr>
          <a:xfrm>
            <a:off x="1219320" y="5181480"/>
            <a:ext cx="65275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5072040" y="4857840"/>
            <a:ext cx="3200400" cy="520560"/>
          </a:xfrm>
          <a:prstGeom prst="rect">
            <a:avLst/>
          </a:prstGeom>
          <a:noFill/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散の正の平方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4" descr="D:\shisato\授業\txp_fig.png"/>
          <p:cNvPicPr/>
          <p:nvPr/>
        </p:nvPicPr>
        <p:blipFill>
          <a:blip r:embed="rId1"/>
          <a:srcRect l="-2278" t="-7633" r="-2278" b="-7633"/>
          <a:stretch/>
        </p:blipFill>
        <p:spPr>
          <a:xfrm>
            <a:off x="2000160" y="3143160"/>
            <a:ext cx="4411800" cy="145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8" name="Text Box 5"/>
          <p:cNvSpPr/>
          <p:nvPr/>
        </p:nvSpPr>
        <p:spPr>
          <a:xfrm>
            <a:off x="357120" y="17859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散は、データから平均を引い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乗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しているから、測定単位も２乗にな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テキスト ボックス 5"/>
          <p:cNvSpPr/>
          <p:nvPr/>
        </p:nvSpPr>
        <p:spPr>
          <a:xfrm>
            <a:off x="4357800" y="57150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測定単位が平均と同じ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表から分散を計算す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11280" y="1267920"/>
            <a:ext cx="799920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度数分布表から分散を計算するには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平均値を計算す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階級値から平均値を引いて２乗し、度数をかけ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それを合計す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データの総数で割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計算例１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095880" y="2017800"/>
            <a:ext cx="243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平均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偏差平方和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分散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.8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標準偏差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4" name="Picture 4" descr="D:\shisato\授業\txp_fig.png"/>
          <p:cNvPicPr/>
          <p:nvPr/>
        </p:nvPicPr>
        <p:blipFill>
          <a:blip r:embed="rId1"/>
          <a:stretch/>
        </p:blipFill>
        <p:spPr>
          <a:xfrm>
            <a:off x="228600" y="2057400"/>
            <a:ext cx="5486400" cy="5684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D:\shisato\授業\txp_fig.png"/>
          <p:cNvPicPr/>
          <p:nvPr/>
        </p:nvPicPr>
        <p:blipFill>
          <a:blip r:embed="rId2"/>
          <a:stretch/>
        </p:blipFill>
        <p:spPr>
          <a:xfrm>
            <a:off x="304920" y="2971800"/>
            <a:ext cx="5486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計算例２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17" name="図 8" descr="txp_fig.png"/>
          <p:cNvPicPr/>
          <p:nvPr/>
        </p:nvPicPr>
        <p:blipFill>
          <a:blip r:embed="rId1"/>
          <a:stretch/>
        </p:blipFill>
        <p:spPr>
          <a:xfrm>
            <a:off x="2052720" y="2744640"/>
            <a:ext cx="3514680" cy="243540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4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図 11" descr="txp_fig.png"/>
          <p:cNvPicPr/>
          <p:nvPr/>
        </p:nvPicPr>
        <p:blipFill>
          <a:blip r:embed="rId2"/>
          <a:stretch/>
        </p:blipFill>
        <p:spPr>
          <a:xfrm>
            <a:off x="500040" y="1285920"/>
            <a:ext cx="7950240" cy="2089080"/>
          </a:xfrm>
          <a:prstGeom prst="rect">
            <a:avLst/>
          </a:prstGeom>
          <a:ln w="0">
            <a:noFill/>
          </a:ln>
        </p:spPr>
      </p:pic>
      <p:sp>
        <p:nvSpPr>
          <p:cNvPr id="520" name="テキスト ボックス 12"/>
          <p:cNvSpPr/>
          <p:nvPr/>
        </p:nvSpPr>
        <p:spPr>
          <a:xfrm>
            <a:off x="1500120" y="4143240"/>
            <a:ext cx="614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平均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÷10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散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÷10=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標準偏差：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8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代表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971640" y="1268280"/>
            <a:ext cx="798336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データの分布の中心を表す数値（統計量）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平均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中央値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最頻値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の意味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79280" y="1341000"/>
            <a:ext cx="878544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データの、平均からの散らばりを評価する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データの、平均値からの離れ方を平均したもの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大きいほうに離れようが、小さいほうに離れようが、どちらも正の数として評価し、打ち消しあわないように平均してい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ヒストグラムと分散・標準偏差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24" name="グラフ 3" descr=""/>
          <p:cNvPicPr/>
          <p:nvPr/>
        </p:nvPicPr>
        <p:blipFill>
          <a:blip r:embed="rId1"/>
          <a:stretch/>
        </p:blipFill>
        <p:spPr>
          <a:xfrm>
            <a:off x="798480" y="1371600"/>
            <a:ext cx="3432240" cy="1859040"/>
          </a:xfrm>
          <a:prstGeom prst="rect">
            <a:avLst/>
          </a:prstGeom>
          <a:ln w="0">
            <a:noFill/>
          </a:ln>
        </p:spPr>
      </p:pic>
      <p:pic>
        <p:nvPicPr>
          <p:cNvPr id="525" name="グラフ 4" descr=""/>
          <p:cNvPicPr/>
          <p:nvPr/>
        </p:nvPicPr>
        <p:blipFill>
          <a:blip r:embed="rId2"/>
          <a:stretch/>
        </p:blipFill>
        <p:spPr>
          <a:xfrm>
            <a:off x="4443480" y="1371600"/>
            <a:ext cx="3481200" cy="1785960"/>
          </a:xfrm>
          <a:prstGeom prst="rect">
            <a:avLst/>
          </a:prstGeom>
          <a:ln w="0">
            <a:noFill/>
          </a:ln>
        </p:spPr>
      </p:pic>
      <p:pic>
        <p:nvPicPr>
          <p:cNvPr id="526" name="グラフ 5" descr=""/>
          <p:cNvPicPr/>
          <p:nvPr/>
        </p:nvPicPr>
        <p:blipFill>
          <a:blip r:embed="rId3"/>
          <a:stretch/>
        </p:blipFill>
        <p:spPr>
          <a:xfrm>
            <a:off x="871560" y="3876840"/>
            <a:ext cx="3286080" cy="1785600"/>
          </a:xfrm>
          <a:prstGeom prst="rect">
            <a:avLst/>
          </a:prstGeom>
          <a:ln w="0">
            <a:noFill/>
          </a:ln>
        </p:spPr>
      </p:pic>
      <p:pic>
        <p:nvPicPr>
          <p:cNvPr id="527" name="グラフ 6" descr=""/>
          <p:cNvPicPr/>
          <p:nvPr/>
        </p:nvPicPr>
        <p:blipFill>
          <a:blip r:embed="rId4"/>
          <a:stretch/>
        </p:blipFill>
        <p:spPr>
          <a:xfrm>
            <a:off x="4657680" y="3943440"/>
            <a:ext cx="3359160" cy="1787400"/>
          </a:xfrm>
          <a:prstGeom prst="rect">
            <a:avLst/>
          </a:prstGeom>
          <a:ln w="0">
            <a:noFill/>
          </a:ln>
        </p:spPr>
      </p:pic>
      <p:sp>
        <p:nvSpPr>
          <p:cNvPr id="528" name="テキスト ボックス 7"/>
          <p:cNvSpPr/>
          <p:nvPr/>
        </p:nvSpPr>
        <p:spPr>
          <a:xfrm>
            <a:off x="1085760" y="323064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分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標準偏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テキスト ボックス 8"/>
          <p:cNvSpPr/>
          <p:nvPr/>
        </p:nvSpPr>
        <p:spPr>
          <a:xfrm>
            <a:off x="4729320" y="32306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分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標準偏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7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テキスト ボックス 9"/>
          <p:cNvSpPr/>
          <p:nvPr/>
        </p:nvSpPr>
        <p:spPr>
          <a:xfrm>
            <a:off x="1014480" y="565956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分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標準偏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4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テキスト ボックス 10"/>
          <p:cNvSpPr/>
          <p:nvPr/>
        </p:nvSpPr>
        <p:spPr>
          <a:xfrm>
            <a:off x="5086440" y="565956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分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9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標準偏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　どっちが大きい？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50560" y="4797360"/>
            <a:ext cx="85690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も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もデータの分布範囲が一緒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左右対称だから平均も一緒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は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や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偏差を持つデータが多い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4" name="Picture 2" descr="H:\shisato\授業\統計入門\st1.bmp"/>
          <p:cNvPicPr/>
          <p:nvPr/>
        </p:nvPicPr>
        <p:blipFill>
          <a:blip r:embed="rId1"/>
          <a:stretch/>
        </p:blipFill>
        <p:spPr>
          <a:xfrm>
            <a:off x="324000" y="1844640"/>
            <a:ext cx="3082680" cy="29955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" descr="H:\shisato\授業\統計入門\st2.bmp"/>
          <p:cNvPicPr/>
          <p:nvPr/>
        </p:nvPicPr>
        <p:blipFill>
          <a:blip r:embed="rId2"/>
          <a:stretch/>
        </p:blipFill>
        <p:spPr>
          <a:xfrm>
            <a:off x="5364000" y="1773360"/>
            <a:ext cx="3097440" cy="3095640"/>
          </a:xfrm>
          <a:prstGeom prst="rect">
            <a:avLst/>
          </a:prstGeom>
          <a:ln w="0">
            <a:noFill/>
          </a:ln>
        </p:spPr>
      </p:pic>
      <p:sp>
        <p:nvSpPr>
          <p:cNvPr id="536" name="四角形吹き出し 5"/>
          <p:cNvSpPr/>
          <p:nvPr/>
        </p:nvSpPr>
        <p:spPr>
          <a:xfrm>
            <a:off x="2916360" y="1125360"/>
            <a:ext cx="5111640" cy="648000"/>
          </a:xfrm>
          <a:prstGeom prst="wedgeRectCallout">
            <a:avLst>
              <a:gd name="adj1" fmla="val 29490"/>
              <a:gd name="adj2" fmla="val 86972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標準偏差が大き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　どっちが大きい？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25440" y="4797000"/>
            <a:ext cx="8569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偏差は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または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では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または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偏差を持つデータは全体の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/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分散は、偏差の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乗の平均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9" name="Picture 2" descr="H:\shisato\授業\統計入門\st6.bmp"/>
          <p:cNvPicPr/>
          <p:nvPr/>
        </p:nvPicPr>
        <p:blipFill>
          <a:blip r:embed="rId1"/>
          <a:stretch/>
        </p:blipFill>
        <p:spPr>
          <a:xfrm>
            <a:off x="5219640" y="1844640"/>
            <a:ext cx="3192480" cy="3164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" descr="H:\shisato\授業\統計入門\st5.bmp"/>
          <p:cNvPicPr/>
          <p:nvPr/>
        </p:nvPicPr>
        <p:blipFill>
          <a:blip r:embed="rId2"/>
          <a:stretch/>
        </p:blipFill>
        <p:spPr>
          <a:xfrm>
            <a:off x="755640" y="1844640"/>
            <a:ext cx="3073320" cy="3073320"/>
          </a:xfrm>
          <a:prstGeom prst="rect">
            <a:avLst/>
          </a:prstGeom>
          <a:ln w="0">
            <a:noFill/>
          </a:ln>
        </p:spPr>
      </p:pic>
      <p:sp>
        <p:nvSpPr>
          <p:cNvPr id="541" name="四角形吹き出し 4"/>
          <p:cNvSpPr/>
          <p:nvPr/>
        </p:nvSpPr>
        <p:spPr>
          <a:xfrm>
            <a:off x="3780000" y="1197000"/>
            <a:ext cx="5111640" cy="647640"/>
          </a:xfrm>
          <a:prstGeom prst="wedgeRectCallout">
            <a:avLst>
              <a:gd name="adj1" fmla="val -13439"/>
              <a:gd name="adj2" fmla="val 83208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標準偏差が大き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　どっちが大きい？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11280" y="5116320"/>
            <a:ext cx="777240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どちらも同じ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同じデータについて、横軸の長さを変えたもの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4" name="グラフ 3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3236760" cy="2743200"/>
          </a:xfrm>
          <a:prstGeom prst="rect">
            <a:avLst/>
          </a:prstGeom>
          <a:ln w="0">
            <a:noFill/>
          </a:ln>
        </p:spPr>
      </p:pic>
      <p:pic>
        <p:nvPicPr>
          <p:cNvPr id="545" name="グラフ 4" descr=""/>
          <p:cNvPicPr/>
          <p:nvPr/>
        </p:nvPicPr>
        <p:blipFill>
          <a:blip r:embed="rId2"/>
          <a:stretch/>
        </p:blipFill>
        <p:spPr>
          <a:xfrm>
            <a:off x="5078520" y="2133720"/>
            <a:ext cx="3236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２標準偏差ルール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23640" y="1268280"/>
            <a:ext cx="85676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正規分布に従うデータでは、平均から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±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２標準偏差の範囲内に収まるデータが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95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例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点満点のテス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23232"/>
                </a:solidFill>
                <a:latin typeface="Gill Sans MT"/>
              </a:rPr>
              <a:t>平均は</a:t>
            </a:r>
            <a:r>
              <a:rPr b="0" lang="en-US" sz="2400" spc="-1" strike="noStrike">
                <a:solidFill>
                  <a:srgbClr val="323232"/>
                </a:solidFill>
                <a:latin typeface="Gill Sans MT"/>
              </a:rPr>
              <a:t>70</a:t>
            </a:r>
            <a:r>
              <a:rPr b="0" lang="ja-JP" sz="2400" spc="-1" strike="noStrike">
                <a:solidFill>
                  <a:srgbClr val="323232"/>
                </a:solidFill>
                <a:latin typeface="Gill Sans MT"/>
              </a:rPr>
              <a:t>、標準偏差が</a:t>
            </a:r>
            <a:r>
              <a:rPr b="0" lang="en-US" sz="2400" spc="-1" strike="noStrike">
                <a:solidFill>
                  <a:srgbClr val="323232"/>
                </a:solidFill>
                <a:latin typeface="Gill Sans MT"/>
              </a:rPr>
              <a:t>5</a:t>
            </a:r>
            <a:endParaRPr b="0" lang="en-US" sz="24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このテストを受けた人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は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6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8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を取っ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8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以上取った人は全体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しかいない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6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も取れなかった人は全体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23232"/>
                </a:solidFill>
                <a:latin typeface="Gill Sans MT"/>
              </a:rPr>
              <a:t>平均は</a:t>
            </a:r>
            <a:r>
              <a:rPr b="0" lang="en-US" sz="2400" spc="-1" strike="noStrike">
                <a:solidFill>
                  <a:srgbClr val="323232"/>
                </a:solidFill>
                <a:latin typeface="Gill Sans MT"/>
              </a:rPr>
              <a:t>70</a:t>
            </a:r>
            <a:r>
              <a:rPr b="0" lang="ja-JP" sz="2400" spc="-1" strike="noStrike">
                <a:solidFill>
                  <a:srgbClr val="323232"/>
                </a:solidFill>
                <a:latin typeface="Gill Sans MT"/>
              </a:rPr>
              <a:t>、標準偏差が</a:t>
            </a:r>
            <a:r>
              <a:rPr b="0" lang="en-US" sz="2400" spc="-1" strike="noStrike">
                <a:solidFill>
                  <a:srgbClr val="323232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このテストを受けた人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は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を取っ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以上取った人は全体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も取れなかった人も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い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グラフにすると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49" name="グラフ 3" descr=""/>
          <p:cNvPicPr/>
          <p:nvPr/>
        </p:nvPicPr>
        <p:blipFill>
          <a:blip r:embed="rId1"/>
          <a:stretch/>
        </p:blipFill>
        <p:spPr>
          <a:xfrm>
            <a:off x="469800" y="2133720"/>
            <a:ext cx="8131320" cy="4389480"/>
          </a:xfrm>
          <a:prstGeom prst="rect">
            <a:avLst/>
          </a:prstGeom>
          <a:ln w="0">
            <a:noFill/>
          </a:ln>
        </p:spPr>
      </p:pic>
      <p:sp>
        <p:nvSpPr>
          <p:cNvPr id="550" name="直線コネクタ 5"/>
          <p:cNvSpPr/>
          <p:nvPr/>
        </p:nvSpPr>
        <p:spPr>
          <a:xfrm>
            <a:off x="6156360" y="1844640"/>
            <a:ext cx="0" cy="482436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偏差値の話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42600" y="2017800"/>
            <a:ext cx="831204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偏差値：データを平均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50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、標準偏差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になるように加工したもの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2A2A-08CE-4C10-AEDD-C6DCAD848F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図 1" descr="%takaTeX&#13;&#10;\documentclass{jarticle}&#13;&#10;\usepackage{color}\pagestyle{empty}&#13;&#10;\begin{document}\LARGE\color{black}&#13;&#10;$$&#13;&#10;偏差値=\frac{得点x-平均\mu}{標準偏差\sigma}\times 10+50&#13;&#10;$$&#13;&#10;\end{document}&#13;&#10;"/>
          <p:cNvPicPr/>
          <p:nvPr/>
        </p:nvPicPr>
        <p:blipFill>
          <a:blip r:embed="rId1"/>
          <a:stretch/>
        </p:blipFill>
        <p:spPr>
          <a:xfrm>
            <a:off x="971640" y="3284640"/>
            <a:ext cx="7391160" cy="1152360"/>
          </a:xfrm>
          <a:prstGeom prst="rect">
            <a:avLst/>
          </a:prstGeom>
          <a:ln w="0">
            <a:noFill/>
          </a:ln>
        </p:spPr>
      </p:pic>
      <p:sp>
        <p:nvSpPr>
          <p:cNvPr id="555" name="正方形/長方形 3"/>
          <p:cNvSpPr/>
          <p:nvPr/>
        </p:nvSpPr>
        <p:spPr>
          <a:xfrm>
            <a:off x="2916360" y="3141720"/>
            <a:ext cx="3240000" cy="143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角丸四角形吹き出し 4"/>
          <p:cNvSpPr/>
          <p:nvPr/>
        </p:nvSpPr>
        <p:spPr>
          <a:xfrm>
            <a:off x="3059280" y="5084640"/>
            <a:ext cx="3744720" cy="720720"/>
          </a:xfrm>
          <a:prstGeom prst="wedgeRoundRectCallout">
            <a:avLst>
              <a:gd name="adj1" fmla="val -18768"/>
              <a:gd name="adj2" fmla="val -118277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ahoma"/>
              </a:rPr>
              <a:t>標準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化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33520" y="1341000"/>
            <a:ext cx="80769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を、（データ－平均値）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÷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標準偏差で加工すると、できたデータの平均と標準偏差は以下のようにな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平均＝０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標準偏差＝１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sp>
        <p:nvSpPr>
          <p:cNvPr id="559" name="AutoShape 1028"/>
          <p:cNvSpPr/>
          <p:nvPr/>
        </p:nvSpPr>
        <p:spPr>
          <a:xfrm>
            <a:off x="3657600" y="3859200"/>
            <a:ext cx="14479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029"/>
          <p:cNvSpPr/>
          <p:nvPr/>
        </p:nvSpPr>
        <p:spPr>
          <a:xfrm>
            <a:off x="2743200" y="5072040"/>
            <a:ext cx="32767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標準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散布度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42920" y="1341000"/>
            <a:ext cx="741672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データの分布の広がり具合を表す数値（統計量）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分散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標準偏差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レンジ（範囲）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四分位範囲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ookman Old Style"/>
              </a:rPr>
              <a:t>平均・中央値・最頻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平均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375" name="Picture 3" descr="D:\shisato\授業\txp_fig.png"/>
          <p:cNvPicPr/>
          <p:nvPr/>
        </p:nvPicPr>
        <p:blipFill>
          <a:blip r:embed="rId1"/>
          <a:stretch/>
        </p:blipFill>
        <p:spPr>
          <a:xfrm>
            <a:off x="357120" y="2643120"/>
            <a:ext cx="7863120" cy="281772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5"/>
          <p:cNvSpPr/>
          <p:nvPr/>
        </p:nvSpPr>
        <p:spPr>
          <a:xfrm>
            <a:off x="1928880" y="1500120"/>
            <a:ext cx="6172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データの合計をデータ数で割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6"/>
          <p:cNvSpPr/>
          <p:nvPr/>
        </p:nvSpPr>
        <p:spPr>
          <a:xfrm>
            <a:off x="500040" y="157176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平均の計算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2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3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4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5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(100+200+300+400+500)÷5=300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万円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2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3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4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50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(100+200+300+400+5000)÷5=1200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万円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  <p:sp>
        <p:nvSpPr>
          <p:cNvPr id="380" name="雲形吹き出し 3"/>
          <p:cNvSpPr/>
          <p:nvPr/>
        </p:nvSpPr>
        <p:spPr>
          <a:xfrm>
            <a:off x="2786040" y="4286160"/>
            <a:ext cx="4857840" cy="2214720"/>
          </a:xfrm>
          <a:prstGeom prst="cloudCallout">
            <a:avLst>
              <a:gd name="adj1" fmla="val 17583"/>
              <a:gd name="adj2" fmla="val -7259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一人のお金持ちが「平均値」を引っ張ってしま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5:51:00Z</dcterms:created>
  <dc:creator/>
  <dc:description/>
  <dc:language>en-US</dc:language>
  <cp:lastModifiedBy/>
  <dcterms:modified xsi:type="dcterms:W3CDTF">2019-03-18T06:10:3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571041</vt:lpwstr>
  </property>
</Properties>
</file>