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122-DB2B-45D8-A80D-113DFADD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EDD-7BA6-44DF-AE9B-803E47F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AB1-274A-4052-B048-CA7C89DB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EA6-9CE9-4A7D-8077-54BF03B7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618-2CD5-45EC-A475-4AFF400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44B-A811-49F2-A765-CB7585E8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3E2-CD57-4263-9378-ADDB0A8A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3A1-D302-4EAC-8BBA-CD87BC2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0D0-ACC5-4366-B266-A9282D6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4A6-075A-465B-B9C8-93E07E7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133-4052-4875-A1A2-3A2318C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447-BE0E-4E1D-A5C6-6FE2BE2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CF035-BDB3-4B4E-83CC-4FA0B75A802D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度数分布表からの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　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539640" y="2276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全体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0+156+158+162+154+152+151+167=1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0÷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図 3" descr="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2614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09480" y="46483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6.75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09:35Z</dcterms:created>
  <dc:creator>Matsumoto Chieko</dc:creator>
  <dc:description/>
  <dc:language>en-US</dc:language>
  <cp:lastModifiedBy>Matsumoto Chieko</cp:lastModifiedBy>
  <dcterms:modified xsi:type="dcterms:W3CDTF">2019-03-18T06:10:06Z</dcterms:modified>
  <cp:revision>1</cp:revision>
  <dc:subject/>
  <dc:title>小テスト</dc:title>
</cp:coreProperties>
</file>