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B24-DAF5-4411-92CB-AF8C7DB6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8ED-EF33-4392-8F5E-ED21FE2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A4A-CF0D-49F2-AC66-B6D0AD47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FB2-38BB-4D2E-9606-519CE80C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6DF-68CE-4AAE-AC5C-E34D38B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86B-3657-4007-BE53-9D8BD2EC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C5F-2789-493C-AAC4-C39FC1DF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86B-3F8D-4607-B96A-C082A82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D80-2BAC-428C-B956-26952B8A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3C9-8FA4-4989-83DF-0EBD7FD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357-7478-46BE-BE28-CC492061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0CA-F362-4CB5-8F27-DEA9BC81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5B00E-BE6C-4F51-B438-9881C15FEB52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1268280"/>
            <a:ext cx="8559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ある養魚場の池には大量のニジマスがいる。この池のニジマスの数を推定した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まず、池の中からニジマスを８０匹採取し、これらのニジマスに目印をつけて元の池に戻し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数日後、池の中からニジマスを６０匹採取したところ、その中に目印のついたニジマスが３匹いた（無作為抽出による標本調査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回答１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無作為抽出による標本調査につい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母集団：池にいるニジマス全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標本：６０匹のニジマ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標本の大きさ：６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６０匹のニジマスのうち３匹に印がついていたので、池全体のニジマスの数をｘとし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3=x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が成り立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これを解いて、池全体のニジマス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6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回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この方法でニジマスの数を予想するための条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調査期間中に死んだ魚や新たに池に入った魚はい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最初につけた目印は消え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どのニジマスも採取される確率は同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23:27Z</dcterms:created>
  <dc:creator>Matsumoto Chieko</dc:creator>
  <dc:description/>
  <dc:language>en-US</dc:language>
  <cp:lastModifiedBy>Matsumoto Chieko</cp:lastModifiedBy>
  <dcterms:modified xsi:type="dcterms:W3CDTF">2019-03-18T06:23:54Z</dcterms:modified>
  <cp:revision>1</cp:revision>
  <dc:subject/>
  <dc:title>小テスト</dc:title>
</cp:coreProperties>
</file>