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C541-35EA-43B3-B1C0-B4A275FC7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EBAD-1E5B-4738-A369-AF1501F3E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32AD-C43E-444B-A2EB-916106016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606D-06E1-4D84-806B-D3F2997EC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FC7F-7433-49F1-8E8A-A4C3C0864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7289-C886-4C59-BAF7-A259C1B8F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2DBE-8BCA-4064-994B-D40111FA7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D00C-93A7-4C2D-8B60-BF311195B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A680-78BA-43A2-85CD-C83360EEA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2EFE-8392-4177-923C-E2866AE21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63B2-E99F-44D8-A738-9001108F7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D976-DF85-403C-A00E-50D563BB8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898989"/>
                </a:solidFill>
                <a:latin typeface="Calibri"/>
                <a:ea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  <a:ea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898989"/>
                </a:solidFill>
                <a:latin typeface="Calibri"/>
                <a:ea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B61945-71D1-4B33-A69D-C9F9FE61CE91}" type="slidenum">
              <a:rPr b="0" lang="ja-JP" sz="1200" spc="-1" strike="noStrike">
                <a:solidFill>
                  <a:srgbClr val="898989"/>
                </a:solidFill>
                <a:latin typeface="Calibri"/>
                <a:ea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 Light"/>
                <a:ea typeface="游ゴシック Light"/>
              </a:rPr>
              <a:t>小テスト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14200" y="1600200"/>
            <a:ext cx="8715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  <a:ea typeface="游ゴシック"/>
              </a:rPr>
              <a:t>全国から無作為抽出した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游ゴシック"/>
              </a:rPr>
              <a:t>2500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  <a:ea typeface="游ゴシック"/>
              </a:rPr>
              <a:t>世帯について年間の米購入量を調査したところ、平均値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游ゴシック"/>
              </a:rPr>
              <a:t>105kg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  <a:ea typeface="游ゴシック"/>
              </a:rPr>
              <a:t>，標本標準偏差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游ゴシック"/>
              </a:rPr>
              <a:t>38.0kg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  <a:ea typeface="游ゴシック"/>
              </a:rPr>
              <a:t>であった。全国の１世帯あたりの平均米購入量を信頼係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游ゴシック"/>
              </a:rPr>
              <a:t>95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  <a:ea typeface="游ゴシック"/>
              </a:rPr>
              <a:t>％で推定せよ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 Light"/>
                <a:ea typeface="游ゴシック Light"/>
              </a:rPr>
              <a:t>小テスト解答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380880" y="3352680"/>
            <a:ext cx="685800" cy="381240"/>
          </a:xfrm>
          <a:prstGeom prst="rightArrow">
            <a:avLst>
              <a:gd name="adj1" fmla="val 50000"/>
              <a:gd name="adj2" fmla="val 44972"/>
            </a:avLst>
          </a:prstGeom>
          <a:solidFill>
            <a:srgbClr val="4472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12" descr="D:\shisato\授業\txp_fig.png"/>
          <p:cNvPicPr/>
          <p:nvPr/>
        </p:nvPicPr>
        <p:blipFill>
          <a:blip r:embed="rId1"/>
          <a:stretch/>
        </p:blipFill>
        <p:spPr>
          <a:xfrm>
            <a:off x="336600" y="2290680"/>
            <a:ext cx="8470800" cy="297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3" descr="D:\shisato\授業\txp_fig.png"/>
          <p:cNvPicPr/>
          <p:nvPr/>
        </p:nvPicPr>
        <p:blipFill>
          <a:blip r:embed="rId2"/>
          <a:stretch/>
        </p:blipFill>
        <p:spPr>
          <a:xfrm>
            <a:off x="1549440" y="3203640"/>
            <a:ext cx="7035840" cy="780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4" descr="D:\shisato\授業\txp_fig.png"/>
          <p:cNvPicPr/>
          <p:nvPr/>
        </p:nvPicPr>
        <p:blipFill>
          <a:blip r:embed="rId3"/>
          <a:stretch/>
        </p:blipFill>
        <p:spPr>
          <a:xfrm>
            <a:off x="1600200" y="4419720"/>
            <a:ext cx="4114800" cy="368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5" descr="D:\shisato\授業\txp_fig.png"/>
          <p:cNvPicPr/>
          <p:nvPr/>
        </p:nvPicPr>
        <p:blipFill>
          <a:blip r:embed="rId4"/>
          <a:stretch/>
        </p:blipFill>
        <p:spPr>
          <a:xfrm>
            <a:off x="1600200" y="5334120"/>
            <a:ext cx="3284640" cy="4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18T06:24:04Z</dcterms:created>
  <dc:creator>Matsumoto Chieko</dc:creator>
  <dc:description/>
  <dc:language>en-US</dc:language>
  <cp:lastModifiedBy>Matsumoto Chieko</cp:lastModifiedBy>
  <dcterms:modified xsi:type="dcterms:W3CDTF">2019-03-18T06:24:50Z</dcterms:modified>
  <cp:revision>1</cp:revision>
  <dc:subject/>
  <dc:title>小テスト</dc:title>
</cp:coreProperties>
</file>