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59116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325080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59116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A027-6AB3-4279-A061-BA99FFA58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161-196E-4029-AAD5-7E65859A15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AD2-2D00-4C60-AC96-6C4449099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02B-B7E1-41BE-A472-42E23704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D382-B140-4A6B-B3CE-45D6616A0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FE106F-3B42-420B-B13B-B0129EE248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C6AE-210C-4050-9B2D-73B7F8699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626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3CD6-9CED-4267-9FDE-508A460E63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D83-02FD-4D25-9FC4-195B358925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395-518F-4E0E-9E65-568C535568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02B-6F26-48D4-8646-3FFAB77F2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638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2225-B2A3-41AB-8C76-170DB39E8E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91D5-ECC3-4195-BE0B-E1A6BE2A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E62-43C2-430D-93DB-2FF83CEF7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27B-3797-41BE-84C4-9D7E296DB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CC7E-5ADE-432C-86B8-C0F9E9825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867D-0C9E-4315-B078-75532A87FB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散布図やクロス集計表（グラフ化したものを含む）でもみれるか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D82-DCF6-4F59-A72D-92A7B97729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平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標準偏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正規分布か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個ランダム（小数点以下切り捨て）で出したデータから作成したヒストグラ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41FE-8335-4F93-B616-B89B780A19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413-4DEA-482A-9F13-2CAAEF9D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751-26E7-4FB0-835C-2704F9D6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FB3-7FB1-4FB2-8C7A-8A9B4016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745-7793-4089-8682-E8BBCAC0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FCB2-42C5-478F-85CE-6BE9246D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FA3-A243-4856-A500-EDAC181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346C-DD47-4635-A5D1-D2D810E2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874-305F-4AD5-921C-993AE15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151D-CE88-4204-906D-13C81C1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500-75E5-452E-A43C-36251C3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B184-9B2F-4DD5-BF34-BC4B269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0E8-2562-424E-9C08-F773644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DA60-CB9B-4591-B9DB-8FB24CC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B644-3E78-489A-B0A1-CC8CBA6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FD2E-15C9-4A2B-BC64-718685FC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57E-A90C-4FC4-BD38-A9D3E931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7DC9-A7D0-472D-87FC-4B62B929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6D6C-08C1-4725-B259-7F86DD21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DD48-C939-4BC1-83A7-EAB3F36C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7705-922A-468A-8C22-FF4FC340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2A05-32E4-459C-AD52-8F107B0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D6D5-322E-42F3-BA4D-518F3C5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1D7-DA4A-40EC-B2AE-794E4817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0CE9-7766-4CD2-AF62-2DF63115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BB89-309F-4A0E-9E9A-47BBED0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3C8A-B11E-49C6-9186-A245235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07782-ECD6-43F0-B172-C911D2A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6BEF-9552-4939-B07B-892C4443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93C1-8DAE-488A-8002-D95A342A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2E44-858C-4F33-89BE-D64CB25D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7CCA-F691-4471-B13C-52F8321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22F5-95B1-4A18-AA1C-E040D6D2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7D27-A29C-4073-B8FB-3BB8B01D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3A8-7720-4A9F-98DD-885E8E3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E0D6-1FDB-4BF4-BF62-DFCDC68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93B6-4F71-433B-8F70-2421CE4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3B82-E909-493C-ADD5-5CE1B089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1064-58D1-4627-9B4F-E0B19B7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06DA-55AA-49DA-852B-AD1A5BC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56B3-4BAF-49E8-8417-B7BE55F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5F64-77B8-476F-B73A-7DC98971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4AA5-A87F-46AF-B58C-C8D404AA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0938-7F0E-438F-9305-F07FCEDF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EA93-1FCE-4A5D-A985-74ADB32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FE4-B95D-4F7B-8839-29708078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A0C2-11DA-4588-A3F4-BBC7A2AC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6527-C18D-4E26-93B3-0B6499A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3B48B-C32B-4CB5-8E26-23DBBF7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9556-37FF-4929-8C2A-1D89F65E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C20D-8B51-43EB-AE8B-FB444217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861D-8FD5-4ABC-AF45-7CBE85D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4FCC-BDC0-4D92-8981-15598C1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EAB8-0004-4F5B-A9A5-6A219CE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2644-B95B-4FE6-ABB2-5520888C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2373-B3C5-4D9A-9003-461FAA58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420-7D99-4D32-8DB8-C2B9AC9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D46C-D196-44B8-A4CE-C3BA8B75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1A89-E3F9-411E-9169-8FF45DFA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BEE1-94F7-4854-9138-0A28F6E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EFBC-8CDC-414E-BE8B-A621863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BAB8-3053-4A24-864F-27C292D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EF28-8296-42AA-B3D4-944B6F4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DB41-9F63-4730-A6D4-DFB7E16D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D2FB-07F9-4B52-8D87-48B70E7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B614-844A-474E-BF4B-CDD66AD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EF59B-CB92-4DCE-A384-B4F4951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C9F-230A-4197-A516-D0CA903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4EB3-0E44-4D65-A68B-6A50A58C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862B7-842F-47A8-9B51-C772B66B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24B8-094B-4E14-B19D-086C5E4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9FF22-E616-447B-AA4F-A021C359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EE97-3289-48F2-8DF5-4CEB3CE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7EC9-5A8F-496B-B8C8-41538A0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7CE1B-C761-4751-B75A-5759BEE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9183-0F74-4888-81E1-760B1BDC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40925-5733-438C-BCE2-0E1BDED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E3733-690D-46D3-A4FD-6CF625B8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9F3-433C-496D-9891-9303BD2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96FB-F6C0-4D94-98CD-27A4955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562B7-BB4A-4774-B630-58D2F67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7CFE-CCEE-4741-B065-B0424D1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708C-D641-4E36-B302-28722146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22E3-70E3-48DA-BAC6-F6E47A2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39F25-22FE-4D21-AD2A-0B6E13EA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6E36-9320-487E-BD11-7DFB0A7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3C9E-A69C-4CFB-81D3-A8941AD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2391A-6293-4EFE-941E-E00B81F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3EED-CA3E-4A26-BAF2-71BA614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C09-D886-4C94-BE01-DC06C00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DEE6-23E4-457F-8772-A980B99B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FDD2A-C812-4E62-A1E2-5CEA7DB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A2F0-941F-4B49-82D8-0DAC826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C5D0-22FD-4EEC-985F-9EA17D4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8304C-52AB-4D27-AD0B-0C92BB6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8E5F-A4C8-4C03-9FA9-1A1CC134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778E-8735-4D76-8711-B38CFDF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63D0-BA65-40BA-B46A-8C70252EBA6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1F8-5BA3-4099-B274-4B6FB48E77D7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F256-6A37-47BF-95C7-262420E8D299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702E-052B-4929-9B88-9E6D879C91AB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127B-5341-4714-A472-1DFB25167817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E36D-670A-47FA-8BB3-641568995527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AF3-0D27-4CED-B210-D761E8155171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769-E78F-4DB8-BBEF-EA15418F241F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93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7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4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4DE-DB51-431D-B9D1-3054CD0B7A18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（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相対度数）の合計＝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（「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」の合計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総数でも良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・四分位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457200" y="36450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34" name="角丸四角形吹き出し 1"/>
          <p:cNvSpPr/>
          <p:nvPr/>
        </p:nvSpPr>
        <p:spPr>
          <a:xfrm>
            <a:off x="5364000" y="2637000"/>
            <a:ext cx="367200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36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37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8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線吹き出し 1 (枠付き) 4"/>
          <p:cNvSpPr/>
          <p:nvPr/>
        </p:nvSpPr>
        <p:spPr>
          <a:xfrm>
            <a:off x="142920" y="1484280"/>
            <a:ext cx="2341440" cy="1587600"/>
          </a:xfrm>
          <a:prstGeom prst="borderCallout1">
            <a:avLst>
              <a:gd name="adj1" fmla="val 18750"/>
              <a:gd name="adj2" fmla="val -8333"/>
              <a:gd name="adj3" fmla="val 164379"/>
              <a:gd name="adj4" fmla="val 1675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下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倍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線吹き出し 1 (枠付き) 5"/>
          <p:cNvSpPr/>
          <p:nvPr/>
        </p:nvSpPr>
        <p:spPr>
          <a:xfrm>
            <a:off x="7215120" y="6000840"/>
            <a:ext cx="11430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線吹き出し 1 (枠付き) 6"/>
          <p:cNvSpPr/>
          <p:nvPr/>
        </p:nvSpPr>
        <p:spPr>
          <a:xfrm>
            <a:off x="2678040" y="151596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310314"/>
              <a:gd name="adj4" fmla="val -7444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線吹き出し 1 (枠付き) 7"/>
          <p:cNvSpPr/>
          <p:nvPr/>
        </p:nvSpPr>
        <p:spPr>
          <a:xfrm>
            <a:off x="4133880" y="236376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08763"/>
              <a:gd name="adj4" fmla="val 2126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線吹き出し 1 (枠付き) 8"/>
          <p:cNvSpPr/>
          <p:nvPr/>
        </p:nvSpPr>
        <p:spPr>
          <a:xfrm>
            <a:off x="6445080" y="1555920"/>
            <a:ext cx="2341800" cy="1587240"/>
          </a:xfrm>
          <a:prstGeom prst="borderCallout1">
            <a:avLst>
              <a:gd name="adj1" fmla="val 18750"/>
              <a:gd name="adj2" fmla="val -8333"/>
              <a:gd name="adj3" fmla="val 164597"/>
              <a:gd name="adj4" fmla="val -5476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上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倍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図 4" descr="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0" name="Picture 1027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1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4320"/>
            <a:ext cx="7603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ドットプロットと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74" name="図 3" descr=""/>
          <p:cNvPicPr/>
          <p:nvPr/>
        </p:nvPicPr>
        <p:blipFill>
          <a:blip r:embed="rId1"/>
          <a:stretch/>
        </p:blipFill>
        <p:spPr>
          <a:xfrm>
            <a:off x="630360" y="1268280"/>
            <a:ext cx="3959280" cy="3083040"/>
          </a:xfrm>
          <a:prstGeom prst="rect">
            <a:avLst/>
          </a:prstGeom>
          <a:ln w="0">
            <a:noFill/>
          </a:ln>
        </p:spPr>
      </p:pic>
      <p:pic>
        <p:nvPicPr>
          <p:cNvPr id="475" name="図 4" descr=""/>
          <p:cNvPicPr/>
          <p:nvPr/>
        </p:nvPicPr>
        <p:blipFill>
          <a:blip r:embed="rId2"/>
          <a:stretch/>
        </p:blipFill>
        <p:spPr>
          <a:xfrm>
            <a:off x="5119560" y="1719360"/>
            <a:ext cx="3600720" cy="21715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72960" y="5721480"/>
            <a:ext cx="839808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四分位数：データを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％ずつに分ける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等分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ヒストグラムの棒の面積・ドットプロットの点の個数も、四分位数で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等分されてい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7" name="図 7" descr=""/>
          <p:cNvPicPr/>
          <p:nvPr/>
        </p:nvPicPr>
        <p:blipFill>
          <a:blip r:embed="rId3"/>
          <a:stretch/>
        </p:blipFill>
        <p:spPr>
          <a:xfrm>
            <a:off x="5119560" y="4103640"/>
            <a:ext cx="3600720" cy="1300320"/>
          </a:xfrm>
          <a:prstGeom prst="rect">
            <a:avLst/>
          </a:prstGeom>
          <a:ln w="0">
            <a:noFill/>
          </a:ln>
        </p:spPr>
      </p:pic>
      <p:pic>
        <p:nvPicPr>
          <p:cNvPr id="478" name="図 8" descr=""/>
          <p:cNvPicPr/>
          <p:nvPr/>
        </p:nvPicPr>
        <p:blipFill>
          <a:blip r:embed="rId4"/>
          <a:stretch/>
        </p:blipFill>
        <p:spPr>
          <a:xfrm>
            <a:off x="1187280" y="4410000"/>
            <a:ext cx="2953080" cy="1065240"/>
          </a:xfrm>
          <a:prstGeom prst="rect">
            <a:avLst/>
          </a:prstGeom>
          <a:ln w="0">
            <a:noFill/>
          </a:ln>
        </p:spPr>
      </p:pic>
      <p:sp>
        <p:nvSpPr>
          <p:cNvPr id="479" name="直線コネクタ 10"/>
          <p:cNvSpPr/>
          <p:nvPr/>
        </p:nvSpPr>
        <p:spPr>
          <a:xfrm>
            <a:off x="2862360" y="185580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線コネクタ 12"/>
          <p:cNvSpPr/>
          <p:nvPr/>
        </p:nvSpPr>
        <p:spPr>
          <a:xfrm>
            <a:off x="3149640" y="184788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線コネクタ 13"/>
          <p:cNvSpPr/>
          <p:nvPr/>
        </p:nvSpPr>
        <p:spPr>
          <a:xfrm>
            <a:off x="2573280" y="185580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5"/>
          <p:cNvSpPr/>
          <p:nvPr/>
        </p:nvSpPr>
        <p:spPr>
          <a:xfrm>
            <a:off x="1892160" y="36781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6"/>
          <p:cNvSpPr/>
          <p:nvPr/>
        </p:nvSpPr>
        <p:spPr>
          <a:xfrm>
            <a:off x="2484360" y="310212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17"/>
          <p:cNvSpPr/>
          <p:nvPr/>
        </p:nvSpPr>
        <p:spPr>
          <a:xfrm>
            <a:off x="2828880" y="23828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テキスト ボックス 18"/>
          <p:cNvSpPr/>
          <p:nvPr/>
        </p:nvSpPr>
        <p:spPr>
          <a:xfrm>
            <a:off x="3373560" y="3462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9"/>
          <p:cNvSpPr/>
          <p:nvPr/>
        </p:nvSpPr>
        <p:spPr>
          <a:xfrm>
            <a:off x="5975280" y="233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20"/>
          <p:cNvSpPr/>
          <p:nvPr/>
        </p:nvSpPr>
        <p:spPr>
          <a:xfrm>
            <a:off x="6778800" y="27194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21"/>
          <p:cNvSpPr/>
          <p:nvPr/>
        </p:nvSpPr>
        <p:spPr>
          <a:xfrm>
            <a:off x="7110360" y="213840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22"/>
          <p:cNvSpPr/>
          <p:nvPr/>
        </p:nvSpPr>
        <p:spPr>
          <a:xfrm>
            <a:off x="7740720" y="233208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4130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グラフ 11" descr=""/>
          <p:cNvPicPr/>
          <p:nvPr/>
        </p:nvPicPr>
        <p:blipFill>
          <a:blip r:embed="rId1"/>
          <a:stretch/>
        </p:blipFill>
        <p:spPr>
          <a:xfrm>
            <a:off x="2975040" y="1847880"/>
            <a:ext cx="5651280" cy="36687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360" y="348840"/>
            <a:ext cx="7597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8400" y="1413000"/>
            <a:ext cx="25844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累積相対度数で度数折れ線を描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四分位数、パーセント点がどの辺りにあるか分か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箱ひげ図が描け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楕円 4"/>
          <p:cNvSpPr/>
          <p:nvPr/>
        </p:nvSpPr>
        <p:spPr>
          <a:xfrm>
            <a:off x="2933640" y="36482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直線矢印コネクタ 6"/>
          <p:cNvCxnSpPr/>
          <p:nvPr/>
        </p:nvCxnSpPr>
        <p:spPr>
          <a:xfrm>
            <a:off x="3296880" y="375552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97" name="直線矢印コネクタ 9"/>
          <p:cNvCxnSpPr/>
          <p:nvPr/>
        </p:nvCxnSpPr>
        <p:spPr>
          <a:xfrm>
            <a:off x="5876640" y="3755880"/>
            <a:ext cx="1080" cy="151200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98" name="楕円 8"/>
          <p:cNvSpPr/>
          <p:nvPr/>
        </p:nvSpPr>
        <p:spPr>
          <a:xfrm>
            <a:off x="2963880" y="2919240"/>
            <a:ext cx="333360" cy="21600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楕円 12"/>
          <p:cNvSpPr/>
          <p:nvPr/>
        </p:nvSpPr>
        <p:spPr>
          <a:xfrm>
            <a:off x="2976480" y="4398840"/>
            <a:ext cx="333360" cy="21600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直線矢印コネクタ 13"/>
          <p:cNvCxnSpPr/>
          <p:nvPr/>
        </p:nvCxnSpPr>
        <p:spPr>
          <a:xfrm>
            <a:off x="3297240" y="3031920"/>
            <a:ext cx="30535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1" name="直線矢印コネクタ 14"/>
          <p:cNvCxnSpPr/>
          <p:nvPr/>
        </p:nvCxnSpPr>
        <p:spPr>
          <a:xfrm>
            <a:off x="3309480" y="4506480"/>
            <a:ext cx="204228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2" name="直線矢印コネクタ 15"/>
          <p:cNvCxnSpPr/>
          <p:nvPr/>
        </p:nvCxnSpPr>
        <p:spPr>
          <a:xfrm>
            <a:off x="5334120" y="4511520"/>
            <a:ext cx="2160" cy="766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3" name="直線矢印コネクタ 16"/>
          <p:cNvCxnSpPr/>
          <p:nvPr/>
        </p:nvCxnSpPr>
        <p:spPr>
          <a:xfrm>
            <a:off x="6333840" y="3019320"/>
            <a:ext cx="1080" cy="22485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504" name="直線コネクタ 19"/>
          <p:cNvSpPr/>
          <p:nvPr/>
        </p:nvSpPr>
        <p:spPr>
          <a:xfrm>
            <a:off x="58770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線コネクタ 21"/>
          <p:cNvSpPr/>
          <p:nvPr/>
        </p:nvSpPr>
        <p:spPr>
          <a:xfrm>
            <a:off x="533412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線コネクタ 22"/>
          <p:cNvSpPr/>
          <p:nvPr/>
        </p:nvSpPr>
        <p:spPr>
          <a:xfrm>
            <a:off x="63342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線コネクタ 23"/>
          <p:cNvSpPr/>
          <p:nvPr/>
        </p:nvSpPr>
        <p:spPr>
          <a:xfrm>
            <a:off x="5326200" y="5445000"/>
            <a:ext cx="100800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線コネクタ 25"/>
          <p:cNvSpPr/>
          <p:nvPr/>
        </p:nvSpPr>
        <p:spPr>
          <a:xfrm>
            <a:off x="5322960" y="6075360"/>
            <a:ext cx="100944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線コネクタ 26"/>
          <p:cNvSpPr/>
          <p:nvPr/>
        </p:nvSpPr>
        <p:spPr>
          <a:xfrm>
            <a:off x="39672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線コネクタ 27"/>
          <p:cNvSpPr/>
          <p:nvPr/>
        </p:nvSpPr>
        <p:spPr>
          <a:xfrm>
            <a:off x="797076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線コネクタ 28"/>
          <p:cNvSpPr/>
          <p:nvPr/>
        </p:nvSpPr>
        <p:spPr>
          <a:xfrm>
            <a:off x="3967200" y="5769000"/>
            <a:ext cx="134784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コネクタ 30"/>
          <p:cNvSpPr/>
          <p:nvPr/>
        </p:nvSpPr>
        <p:spPr>
          <a:xfrm>
            <a:off x="6332400" y="5769000"/>
            <a:ext cx="163836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120" y="2642760"/>
            <a:ext cx="80773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が存在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1080" y="1484280"/>
            <a:ext cx="8588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0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521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24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7" name="図 5" descr="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528" name="図 7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529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31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532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68280"/>
            <a:ext cx="8229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53" name="図 8" descr="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図 11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56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60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61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62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63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64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72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77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81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85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86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341000"/>
            <a:ext cx="82296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・四分位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8685-28BA-4ACE-BDFA-3DB5C0B89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91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95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ポート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平均、中央値、分散、標準偏差を計算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分布表から平均、分散、標準偏差を計算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相対度数・累積度数の計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の作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の作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テキスト ボックス 3"/>
          <p:cNvSpPr/>
          <p:nvPr/>
        </p:nvSpPr>
        <p:spPr>
          <a:xfrm>
            <a:off x="934920" y="5499000"/>
            <a:ext cx="727236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締切：「統計学」試験終了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をみ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SA2021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数学フレームワー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数学的推論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(Mathematical Reasoning)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と問題解決（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Modeling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）サイクルと関連する数学リテラシーの基本概念に基づいて評価の理論的基盤を定義してい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数学的推論に必要な力の一つが「変動を統計の中心として理解する力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をみるためのツ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39280" y="1341000"/>
            <a:ext cx="8147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偏差平方和・分散・標準偏差・変動係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共分散行列・相関係数（行列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範囲・四分位範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確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7" name="吹き出し: 角を丸めた四角形 3"/>
          <p:cNvGrpSpPr/>
          <p:nvPr/>
        </p:nvGrpSpPr>
        <p:grpSpPr>
          <a:xfrm>
            <a:off x="2554200" y="3164040"/>
            <a:ext cx="6388200" cy="3322440"/>
            <a:chOff x="2554200" y="3164040"/>
            <a:chExt cx="6388200" cy="3322440"/>
          </a:xfrm>
        </p:grpSpPr>
        <p:pic>
          <p:nvPicPr>
            <p:cNvPr id="378" name="吹き出し: 角を丸めた四角形 3" descr=""/>
            <p:cNvPicPr/>
            <p:nvPr/>
          </p:nvPicPr>
          <p:blipFill>
            <a:blip r:embed="rId1"/>
            <a:stretch/>
          </p:blipFill>
          <p:spPr>
            <a:xfrm>
              <a:off x="2554200" y="3164040"/>
              <a:ext cx="638820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757600" y="3701880"/>
              <a:ext cx="59832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YuMincho-Regular"/>
                </a:rPr>
                <a:t>統計が提供する変動を伴う真実は、数学が提供する真実とは異なり、確率的文脈で設定された真実の推定値であるため、可能な値の範囲を提示するだけで、意思決定者には真実が何であるかを確実に知ることはできな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と意思決定の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41360"/>
            <a:ext cx="4376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実技試験によって高校生を評価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・実技試験は基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回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・実技試験で「たまたま」実力が出せなかった場合もあるか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回だけの面接・実技試験の結果」をそのまま「その人の実力」と評価して良いか？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図 3" descr=""/>
          <p:cNvPicPr/>
          <p:nvPr/>
        </p:nvPicPr>
        <p:blipFill>
          <a:blip r:embed="rId1"/>
          <a:stretch/>
        </p:blipFill>
        <p:spPr>
          <a:xfrm>
            <a:off x="5253120" y="1920960"/>
            <a:ext cx="2752560" cy="2143080"/>
          </a:xfrm>
          <a:prstGeom prst="rect">
            <a:avLst/>
          </a:prstGeom>
          <a:ln w="0">
            <a:noFill/>
          </a:ln>
        </p:spPr>
      </p:pic>
      <p:grpSp>
        <p:nvGrpSpPr>
          <p:cNvPr id="383" name="吹き出し: 角を丸めた四角形 4"/>
          <p:cNvGrpSpPr/>
          <p:nvPr/>
        </p:nvGrpSpPr>
        <p:grpSpPr>
          <a:xfrm>
            <a:off x="4761000" y="3846600"/>
            <a:ext cx="3316320" cy="1560600"/>
            <a:chOff x="4761000" y="3846600"/>
            <a:chExt cx="3316320" cy="1560600"/>
          </a:xfrm>
        </p:grpSpPr>
        <p:pic>
          <p:nvPicPr>
            <p:cNvPr id="384" name="吹き出し: 角を丸めた四角形 4" descr=""/>
            <p:cNvPicPr/>
            <p:nvPr/>
          </p:nvPicPr>
          <p:blipFill>
            <a:blip r:embed="rId2"/>
            <a:stretch/>
          </p:blipFill>
          <p:spPr>
            <a:xfrm>
              <a:off x="4761000" y="3846600"/>
              <a:ext cx="33163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876920" y="4368960"/>
              <a:ext cx="30859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「たまたま」ここ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出てきた可能性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20-09-04T05:46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